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6F9F-2C24-40E3-84CA-D787B1617D49}" type="slidenum">
              <a:rPr b="0" lang="th-T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374" name="ตัวยึดหมายเลขภาพนิ่ง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C312-F9F0-4ED4-B828-F3281700CA4C}" type="slidenum">
              <a:rPr b="0" lang="th-T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377" name="ตัวยึดหมายเลขภาพนิ่ง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1043-CD2C-4D3A-A848-48DE59E5A658}" type="slidenum">
              <a:rPr b="0" lang="th-T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380" name="ตัวยึดหมายเลขภาพนิ่ง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376-3714-40F6-BC0A-BB28CF9CB3C0}" type="slidenum">
              <a:rPr b="0" lang="th-T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A5D-A0E5-4CA8-B0DA-2BCA4A1E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3EC-1073-4B80-B1F2-DAD90EBB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EBC-324D-40FD-A792-61955C34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205-1FCE-4108-B708-FCD1C870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EB6F-260B-4AFC-8BA1-041566A3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F348-AF09-4BD5-82BD-12DEE128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D60B-7621-4BB0-8B7F-72007DE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83E3-58E1-4BD9-8589-48EDD5C7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98F9-7009-481D-9744-608460A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14A0-FB5C-4087-809C-505653D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C4EC-D7D6-4268-9867-E5AE742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C93-CE0A-48AD-BB19-CCE2914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5725-08E5-42C9-80CE-891E46E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C10F-F9A6-47C0-866B-A6004D0A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F07-ECDF-447F-95B3-64A98846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5391-8D42-4450-83E1-B662F43A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AEC2-24FD-4B6F-91A1-453C1C52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67D4-9DB6-411C-91F3-EB9AF120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F985-6C0C-4618-8660-8C049E20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C696-C6B9-4882-86D6-A5AED03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ADAE-DE63-48C4-B35C-73B1D63F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DFD2-DB1E-4B35-9F74-947C9B2B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366-232B-437E-BB6E-7A78E162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C3AD-1D06-4B6A-AB88-860A5C93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44EF-0DFD-4368-AA94-DAC51B75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9994-F60C-42E4-B1C0-000AB318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407F-8780-4810-BA3A-2971859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358A-783A-47CD-8692-185E94E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0933-D571-43C5-9A49-3B45D3E5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EDD4-27EA-4046-A62B-21027943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E36-94A7-463F-8C69-A2D746B5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0CC-CAEA-4D81-8454-955DCEB0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419-6A94-4D23-BA0C-3A64C969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1C2-3C56-4CA5-9088-E98F729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F87-688C-4311-AD2F-B6D6FF06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C3D-C3B8-40D7-B969-28616DE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9275-7AC4-46BA-82E5-E64C9848BB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7A88-A583-4CB0-B821-8270219E6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06200" y="609480"/>
            <a:ext cx="12085920" cy="0"/>
          </a:xfrm>
          <a:prstGeom prst="line">
            <a:avLst/>
          </a:prstGeom>
          <a:ln w="633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773-B31D-44C1-936D-06ADF128A7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9448920" y="6488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8235"/>
                </a:solidFill>
                <a:latin typeface="TH SarabunPSK"/>
                <a:ea typeface="TH SarabunPS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4483-943D-4523-A063-5CB761F22E8D}" type="slidenum">
              <a:rPr b="0" lang="en-US" sz="1400" spc="-1" strike="noStrike">
                <a:solidFill>
                  <a:srgbClr val="548235"/>
                </a:solidFill>
                <a:latin typeface="TH SarabunPSK"/>
                <a:ea typeface="TH SarabunPS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7"/>
          <p:cNvSpPr/>
          <p:nvPr/>
        </p:nvSpPr>
        <p:spPr>
          <a:xfrm>
            <a:off x="106200" y="609480"/>
            <a:ext cx="12085920" cy="0"/>
          </a:xfrm>
          <a:prstGeom prst="line">
            <a:avLst/>
          </a:prstGeom>
          <a:ln w="633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3B47-B2BC-463B-AEAB-B88D79E608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9448920" y="6488280"/>
            <a:ext cx="274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46c0a"/>
                </a:solidFill>
                <a:latin typeface="TH SarabunPSK"/>
                <a:ea typeface="TH SarabunPS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3E07-E8BF-4748-9A65-5F06F6D33531}" type="slidenum">
              <a:rPr b="0" lang="en-US" sz="1400" spc="-1" strike="noStrike">
                <a:solidFill>
                  <a:srgbClr val="e46c0a"/>
                </a:solidFill>
                <a:latin typeface="TH SarabunPSK"/>
                <a:ea typeface="TH SarabunPS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คำบรรยายภาพแบบวงรี 10"/>
          <p:cNvSpPr/>
          <p:nvPr/>
        </p:nvSpPr>
        <p:spPr>
          <a:xfrm>
            <a:off x="2125800" y="1009800"/>
            <a:ext cx="7908840" cy="1603080"/>
          </a:xfrm>
          <a:prstGeom prst="wedgeEllipseCallout">
            <a:avLst>
              <a:gd name="adj1" fmla="val -31041"/>
              <a:gd name="adj2" fmla="val 69314"/>
            </a:avLst>
          </a:prstGeom>
          <a:solidFill>
            <a:srgbClr val="ffffff"/>
          </a:solidFill>
          <a:ln w="5724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3159000" y="1479600"/>
            <a:ext cx="60008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003399"/>
                </a:solidFill>
                <a:latin typeface="TH SarabunPSK"/>
                <a:cs typeface="TH SarabunPSK"/>
              </a:rPr>
              <a:t>แผนงานบูรณากา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แผนผังลําดับงาน: กระบวนการสำรอง 5"/>
          <p:cNvSpPr/>
          <p:nvPr/>
        </p:nvSpPr>
        <p:spPr>
          <a:xfrm>
            <a:off x="1449360" y="3301920"/>
            <a:ext cx="9369360" cy="25639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พัฒนาศักยภาพคนตามช่วงวั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จำปีงบประมาณ พ</a:t>
            </a:r>
            <a:r>
              <a:rPr b="1" lang="th-TH" sz="4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ศ</a:t>
            </a:r>
            <a:r>
              <a:rPr b="1" lang="th-TH" sz="4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25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สี่เหลี่ยมผืนผ้า 125"/>
          <p:cNvSpPr/>
          <p:nvPr/>
        </p:nvSpPr>
        <p:spPr>
          <a:xfrm rot="1468200">
            <a:off x="1138320" y="3224160"/>
            <a:ext cx="1112760" cy="399960"/>
          </a:xfrm>
          <a:prstGeom prst="rect">
            <a:avLst/>
          </a:prstGeom>
          <a:solidFill>
            <a:srgbClr val="f4b18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8"/>
          <p:cNvSpPr/>
          <p:nvPr/>
        </p:nvSpPr>
        <p:spPr>
          <a:xfrm>
            <a:off x="2158920" y="4056120"/>
            <a:ext cx="3543480" cy="2619000"/>
          </a:xfrm>
          <a:prstGeom prst="rect">
            <a:avLst/>
          </a:prstGeom>
          <a:gradFill rotWithShape="0">
            <a:gsLst>
              <a:gs pos="0">
                <a:srgbClr val="99aff0"/>
              </a:gs>
              <a:gs pos="100000">
                <a:srgbClr val="d7e1ff"/>
              </a:gs>
            </a:gsLst>
            <a:lin ang="16200000"/>
          </a:gra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36000" tIns="108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รม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ีมติ วัน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7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ุลาคม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58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ห็นชอบ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จัดทำงบประมาณในลักษณะบูรณาการเชิงยุทธศาสตร์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ประจำปีงบประมาณ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60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โดยกำหนดแผนงานที่เป็นจุดเน้นของยุทธศาสตร์แต่ละด้าน จำนวน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รื่อง  โดยส่วนที่เกี่ยวข้อง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ือ คณะ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ยุทธศาสตร์ด้านการพัฒนาและเสริมสร้างศักยภาพคน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1) </a:t>
            </a:r>
            <a:r>
              <a:rPr b="1" lang="th-TH" sz="15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ารพัฒนาศักยภาพคนตามช่วงวัย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บูรณาการทำงาน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9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น่วยงา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ลเรือเอก ณรงค์ พิพัฒนาศัย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องนายกฯ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็นประธานกรรมกา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สี่เหลี่ยมมุมมน 57"/>
          <p:cNvSpPr/>
          <p:nvPr/>
        </p:nvSpPr>
        <p:spPr>
          <a:xfrm>
            <a:off x="0" y="5423040"/>
            <a:ext cx="2895480" cy="1839240"/>
          </a:xfrm>
          <a:prstGeom prst="roundRect">
            <a:avLst>
              <a:gd name="adj" fmla="val 23574"/>
            </a:avLst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ลการเบิกจ่ายงบประมาณตามแผนบูรณาการการพัฒนาคนตลอดช่วงชีวิต ประจำปีงบประมาณ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59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ายงานเป็นไตรมาส และอยู่ระหว่างรายงานประมวลผลการดำเนินงานไตรมาสที่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กลุ่ม 70" descr=""/>
          <p:cNvPicPr/>
          <p:nvPr/>
        </p:nvPicPr>
        <p:blipFill>
          <a:blip r:embed="rId1"/>
          <a:stretch/>
        </p:blipFill>
        <p:spPr>
          <a:xfrm>
            <a:off x="2743200" y="804960"/>
            <a:ext cx="2120760" cy="645840"/>
          </a:xfrm>
          <a:prstGeom prst="rect">
            <a:avLst/>
          </a:prstGeom>
          <a:ln w="0">
            <a:noFill/>
          </a:ln>
        </p:spPr>
      </p:pic>
      <p:pic>
        <p:nvPicPr>
          <p:cNvPr id="139" name="กลุ่ม 85" descr=""/>
          <p:cNvPicPr/>
          <p:nvPr/>
        </p:nvPicPr>
        <p:blipFill>
          <a:blip r:embed="rId2"/>
          <a:stretch/>
        </p:blipFill>
        <p:spPr>
          <a:xfrm>
            <a:off x="9863280" y="811080"/>
            <a:ext cx="2243160" cy="652680"/>
          </a:xfrm>
          <a:prstGeom prst="rect">
            <a:avLst/>
          </a:prstGeom>
          <a:ln w="0">
            <a:noFill/>
          </a:ln>
        </p:spPr>
      </p:pic>
      <p:sp>
        <p:nvSpPr>
          <p:cNvPr id="140" name="ตัวเชื่อมต่อตรง 80"/>
          <p:cNvSpPr/>
          <p:nvPr/>
        </p:nvSpPr>
        <p:spPr>
          <a:xfrm>
            <a:off x="4089240" y="5803920"/>
            <a:ext cx="12960" cy="29196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ตัวยึดหมายเลขภาพนิ่ง 2"/>
          <p:cNvSpPr/>
          <p:nvPr/>
        </p:nvSpPr>
        <p:spPr>
          <a:xfrm>
            <a:off x="944892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สี่เหลี่ยมผืนผ้า 4"/>
          <p:cNvGrpSpPr/>
          <p:nvPr/>
        </p:nvGrpSpPr>
        <p:grpSpPr>
          <a:xfrm>
            <a:off x="6791400" y="-42840"/>
            <a:ext cx="5479920" cy="744480"/>
            <a:chOff x="6791400" y="-42840"/>
            <a:chExt cx="5479920" cy="744480"/>
          </a:xfrm>
        </p:grpSpPr>
        <p:pic>
          <p:nvPicPr>
            <p:cNvPr id="143" name="สี่เหลี่ยมผืนผ้า 4" descr=""/>
            <p:cNvPicPr/>
            <p:nvPr/>
          </p:nvPicPr>
          <p:blipFill>
            <a:blip r:embed="rId3"/>
            <a:stretch/>
          </p:blipFill>
          <p:spPr>
            <a:xfrm>
              <a:off x="6791400" y="-42840"/>
              <a:ext cx="547992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870600" y="0"/>
              <a:ext cx="53215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5"/>
          <p:cNvSpPr/>
          <p:nvPr/>
        </p:nvSpPr>
        <p:spPr>
          <a:xfrm>
            <a:off x="7137360" y="0"/>
            <a:ext cx="4876920" cy="82548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e3e3e3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ผนบูรณาการ การพัฒนาศักยภาพคนตามช่วงว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สี่เหลี่ยมมุมมน 6"/>
          <p:cNvSpPr/>
          <p:nvPr/>
        </p:nvSpPr>
        <p:spPr>
          <a:xfrm>
            <a:off x="152280" y="254160"/>
            <a:ext cx="6502680" cy="495000"/>
          </a:xfrm>
          <a:prstGeom prst="roundRect">
            <a:avLst>
              <a:gd name="adj" fmla="val 16667"/>
            </a:avLst>
          </a:prstGeom>
          <a:solidFill>
            <a:srgbClr val="ffb9ff"/>
          </a:solidFill>
          <a:ln w="5508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เครื่องหมายบั้ง 31"/>
          <p:cNvSpPr/>
          <p:nvPr/>
        </p:nvSpPr>
        <p:spPr>
          <a:xfrm>
            <a:off x="1409760" y="3466800"/>
            <a:ext cx="1968480" cy="52092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74" y="0"/>
                </a:lnTo>
                <a:lnTo>
                  <a:pt x="21600" y="10800"/>
                </a:lnTo>
                <a:lnTo>
                  <a:pt x="18674" y="21600"/>
                </a:lnTo>
                <a:lnTo>
                  <a:pt x="0" y="21600"/>
                </a:lnTo>
                <a:lnTo>
                  <a:pt x="2926" y="10800"/>
                </a:lnTo>
                <a:close/>
              </a:path>
            </a:pathLst>
          </a:custGeom>
          <a:solidFill>
            <a:srgbClr val="70ad47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      </a:t>
            </a:r>
            <a:r>
              <a:rPr b="0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2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เครื่องหมายบั้ง 32"/>
          <p:cNvSpPr/>
          <p:nvPr/>
        </p:nvSpPr>
        <p:spPr>
          <a:xfrm>
            <a:off x="3238560" y="3493800"/>
            <a:ext cx="1778040" cy="52092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18" y="0"/>
                </a:lnTo>
                <a:lnTo>
                  <a:pt x="21600" y="10800"/>
                </a:lnTo>
                <a:lnTo>
                  <a:pt x="18418" y="21600"/>
                </a:lnTo>
                <a:lnTo>
                  <a:pt x="0" y="21600"/>
                </a:lnTo>
                <a:lnTo>
                  <a:pt x="3182" y="10800"/>
                </a:lnTo>
                <a:close/>
              </a:path>
            </a:pathLst>
          </a:custGeom>
          <a:solidFill>
            <a:srgbClr val="4472c4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เครื่องหมายบั้ง 33"/>
          <p:cNvSpPr/>
          <p:nvPr/>
        </p:nvSpPr>
        <p:spPr>
          <a:xfrm>
            <a:off x="4826160" y="3484440"/>
            <a:ext cx="1815840" cy="520560"/>
          </a:xfrm>
          <a:custGeom>
            <a:avLst/>
            <a:gdLst>
              <a:gd name="textAreaLeft" fmla="*/ 0 w 1815840"/>
              <a:gd name="textAreaRight" fmla="*/ 1816200 w 18158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5" y="0"/>
                </a:lnTo>
                <a:lnTo>
                  <a:pt x="21600" y="10800"/>
                </a:lnTo>
                <a:lnTo>
                  <a:pt x="18485" y="21600"/>
                </a:lnTo>
                <a:lnTo>
                  <a:pt x="0" y="21600"/>
                </a:lnTo>
                <a:lnTo>
                  <a:pt x="3115" y="10800"/>
                </a:lnTo>
                <a:close/>
              </a:path>
            </a:pathLst>
          </a:custGeom>
          <a:solidFill>
            <a:srgbClr val="ffc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5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เครื่องหมายบั้ง 34"/>
          <p:cNvSpPr/>
          <p:nvPr/>
        </p:nvSpPr>
        <p:spPr>
          <a:xfrm>
            <a:off x="8178840" y="3468600"/>
            <a:ext cx="1955880" cy="52056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7" y="0"/>
                </a:lnTo>
                <a:lnTo>
                  <a:pt x="21600" y="10800"/>
                </a:lnTo>
                <a:lnTo>
                  <a:pt x="18707" y="21600"/>
                </a:lnTo>
                <a:lnTo>
                  <a:pt x="0" y="21600"/>
                </a:lnTo>
                <a:lnTo>
                  <a:pt x="2893" y="10800"/>
                </a:lnTo>
                <a:close/>
              </a:path>
            </a:pathLst>
          </a:custGeom>
          <a:solidFill>
            <a:srgbClr val="ed7d31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5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เครื่องหมายบั้ง 35"/>
          <p:cNvSpPr/>
          <p:nvPr/>
        </p:nvSpPr>
        <p:spPr>
          <a:xfrm>
            <a:off x="9944280" y="3485880"/>
            <a:ext cx="2044440" cy="5209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3" y="0"/>
                </a:lnTo>
                <a:lnTo>
                  <a:pt x="21600" y="10800"/>
                </a:lnTo>
                <a:lnTo>
                  <a:pt x="18833" y="21600"/>
                </a:lnTo>
                <a:lnTo>
                  <a:pt x="0" y="21600"/>
                </a:lnTo>
                <a:lnTo>
                  <a:pt x="2767" y="10800"/>
                </a:lnTo>
                <a:close/>
              </a:path>
            </a:pathLst>
          </a:custGeom>
          <a:solidFill>
            <a:srgbClr val="cc0000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5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0" y="3259080"/>
            <a:ext cx="2031840" cy="307548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36000" tIns="108000" bIns="0" anchor="t">
            <a:spAutoFit/>
          </a:bodyPr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ติ ครม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วันที่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1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57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ห็นชอบ กำหนดแนวทางการจัดทำงบประมาณ ในลักษณะบูรณาการ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จำนวน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8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รื่อง โดยมอบหมายรองนายกรัฐมนตรี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ัฐมนตรี กำกับการดำเนินงานในรูปคณะกรรมการฯ  โดยมี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ม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็นเจ้าภาพหลัก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ณะที่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1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รื่อง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พัฒนาคนตลอดช่วงชีวิต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ร่วมกับ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 และ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0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องทุ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เครื่องหมายบั้ง 39"/>
          <p:cNvSpPr/>
          <p:nvPr/>
        </p:nvSpPr>
        <p:spPr>
          <a:xfrm>
            <a:off x="6477120" y="3462120"/>
            <a:ext cx="1828800" cy="520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06" y="0"/>
                </a:lnTo>
                <a:lnTo>
                  <a:pt x="21600" y="10800"/>
                </a:lnTo>
                <a:lnTo>
                  <a:pt x="18506" y="21600"/>
                </a:lnTo>
                <a:lnTo>
                  <a:pt x="0" y="21600"/>
                </a:lnTo>
                <a:lnTo>
                  <a:pt x="3094" y="10800"/>
                </a:lnTo>
                <a:close/>
              </a:path>
            </a:pathLst>
          </a:custGeom>
          <a:solidFill>
            <a:srgbClr val="a5a5a5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5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สี่เหลี่ยมผืนผ้า 43"/>
          <p:cNvSpPr/>
          <p:nvPr/>
        </p:nvSpPr>
        <p:spPr>
          <a:xfrm>
            <a:off x="3311640" y="6032520"/>
            <a:ext cx="1717560" cy="94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,536.84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7"/>
          <p:cNvSpPr/>
          <p:nvPr/>
        </p:nvSpPr>
        <p:spPr>
          <a:xfrm>
            <a:off x="3225960" y="5956200"/>
            <a:ext cx="85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Angsana New"/>
              </a:rPr>
              <a:t>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4495680" y="6324480"/>
            <a:ext cx="66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Angsana New"/>
              </a:rPr>
              <a:t>ล้านบา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สี่เหลี่ยมผืนผ้า 60"/>
          <p:cNvSpPr/>
          <p:nvPr/>
        </p:nvSpPr>
        <p:spPr>
          <a:xfrm>
            <a:off x="355680" y="228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วิสัยทัศน์ </a:t>
            </a:r>
            <a:r>
              <a:rPr b="1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ไทยมีศักยภาพมีคุณภาพชีวิตที่ดี สังคมอยู่ดีมีสุ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กลุ่ม 64" descr=""/>
          <p:cNvPicPr/>
          <p:nvPr/>
        </p:nvPicPr>
        <p:blipFill>
          <a:blip r:embed="rId4"/>
          <a:stretch/>
        </p:blipFill>
        <p:spPr>
          <a:xfrm>
            <a:off x="433440" y="768240"/>
            <a:ext cx="2120760" cy="646200"/>
          </a:xfrm>
          <a:prstGeom prst="rect">
            <a:avLst/>
          </a:prstGeom>
          <a:ln w="0">
            <a:noFill/>
          </a:ln>
        </p:spPr>
      </p:pic>
      <p:grpSp>
        <p:nvGrpSpPr>
          <p:cNvPr id="159" name="วงรี 69"/>
          <p:cNvGrpSpPr/>
          <p:nvPr/>
        </p:nvGrpSpPr>
        <p:grpSpPr>
          <a:xfrm>
            <a:off x="2505240" y="768240"/>
            <a:ext cx="664920" cy="584280"/>
            <a:chOff x="2505240" y="768240"/>
            <a:chExt cx="664920" cy="584280"/>
          </a:xfrm>
        </p:grpSpPr>
        <p:pic>
          <p:nvPicPr>
            <p:cNvPr id="160" name="วงรี 69" descr=""/>
            <p:cNvPicPr/>
            <p:nvPr/>
          </p:nvPicPr>
          <p:blipFill>
            <a:blip r:embed="rId5"/>
            <a:stretch/>
          </p:blipFill>
          <p:spPr>
            <a:xfrm>
              <a:off x="2505240" y="768240"/>
              <a:ext cx="6649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17920" y="870120"/>
              <a:ext cx="4413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วงรี 62"/>
          <p:cNvGrpSpPr/>
          <p:nvPr/>
        </p:nvGrpSpPr>
        <p:grpSpPr>
          <a:xfrm>
            <a:off x="146160" y="768240"/>
            <a:ext cx="664920" cy="622440"/>
            <a:chOff x="146160" y="768240"/>
            <a:chExt cx="664920" cy="622440"/>
          </a:xfrm>
        </p:grpSpPr>
        <p:pic>
          <p:nvPicPr>
            <p:cNvPr id="163" name="วงรี 62" descr=""/>
            <p:cNvPicPr/>
            <p:nvPr/>
          </p:nvPicPr>
          <p:blipFill>
            <a:blip r:embed="rId6"/>
            <a:stretch/>
          </p:blipFill>
          <p:spPr>
            <a:xfrm>
              <a:off x="146160" y="768240"/>
              <a:ext cx="664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55600" y="876240"/>
              <a:ext cx="439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กลุ่ม 73" descr=""/>
          <p:cNvPicPr/>
          <p:nvPr/>
        </p:nvPicPr>
        <p:blipFill>
          <a:blip r:embed="rId7"/>
          <a:stretch/>
        </p:blipFill>
        <p:spPr>
          <a:xfrm>
            <a:off x="5010120" y="792000"/>
            <a:ext cx="2549520" cy="658800"/>
          </a:xfrm>
          <a:prstGeom prst="rect">
            <a:avLst/>
          </a:prstGeom>
          <a:ln w="0">
            <a:noFill/>
          </a:ln>
        </p:spPr>
      </p:pic>
      <p:grpSp>
        <p:nvGrpSpPr>
          <p:cNvPr id="166" name="วงรี 76"/>
          <p:cNvGrpSpPr/>
          <p:nvPr/>
        </p:nvGrpSpPr>
        <p:grpSpPr>
          <a:xfrm>
            <a:off x="4803840" y="804960"/>
            <a:ext cx="652320" cy="603000"/>
            <a:chOff x="4803840" y="804960"/>
            <a:chExt cx="652320" cy="603000"/>
          </a:xfrm>
        </p:grpSpPr>
        <p:pic>
          <p:nvPicPr>
            <p:cNvPr id="167" name="วงรี 76" descr=""/>
            <p:cNvPicPr/>
            <p:nvPr/>
          </p:nvPicPr>
          <p:blipFill>
            <a:blip r:embed="rId8"/>
            <a:stretch/>
          </p:blipFill>
          <p:spPr>
            <a:xfrm>
              <a:off x="4803840" y="804960"/>
              <a:ext cx="65232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916520" y="907920"/>
              <a:ext cx="430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กลุ่ม 81" descr=""/>
          <p:cNvPicPr/>
          <p:nvPr/>
        </p:nvPicPr>
        <p:blipFill>
          <a:blip r:embed="rId9"/>
          <a:stretch/>
        </p:blipFill>
        <p:spPr>
          <a:xfrm>
            <a:off x="7796160" y="755640"/>
            <a:ext cx="2060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70" name="วงรี 84"/>
          <p:cNvGrpSpPr/>
          <p:nvPr/>
        </p:nvGrpSpPr>
        <p:grpSpPr>
          <a:xfrm>
            <a:off x="9813960" y="804960"/>
            <a:ext cx="512640" cy="627120"/>
            <a:chOff x="9813960" y="804960"/>
            <a:chExt cx="512640" cy="627120"/>
          </a:xfrm>
        </p:grpSpPr>
        <p:pic>
          <p:nvPicPr>
            <p:cNvPr id="171" name="วงรี 84" descr=""/>
            <p:cNvPicPr/>
            <p:nvPr/>
          </p:nvPicPr>
          <p:blipFill>
            <a:blip r:embed="rId10"/>
            <a:stretch/>
          </p:blipFill>
          <p:spPr>
            <a:xfrm>
              <a:off x="9813960" y="804960"/>
              <a:ext cx="512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9904320" y="909720"/>
              <a:ext cx="3333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วงรี 77"/>
          <p:cNvGrpSpPr/>
          <p:nvPr/>
        </p:nvGrpSpPr>
        <p:grpSpPr>
          <a:xfrm>
            <a:off x="7559640" y="768240"/>
            <a:ext cx="627120" cy="639720"/>
            <a:chOff x="7559640" y="768240"/>
            <a:chExt cx="627120" cy="639720"/>
          </a:xfrm>
        </p:grpSpPr>
        <p:pic>
          <p:nvPicPr>
            <p:cNvPr id="174" name="วงรี 77" descr=""/>
            <p:cNvPicPr/>
            <p:nvPr/>
          </p:nvPicPr>
          <p:blipFill>
            <a:blip r:embed="rId11"/>
            <a:stretch/>
          </p:blipFill>
          <p:spPr>
            <a:xfrm>
              <a:off x="7559640" y="768240"/>
              <a:ext cx="627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67640" y="874800"/>
              <a:ext cx="412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88"/>
          <p:cNvSpPr/>
          <p:nvPr/>
        </p:nvSpPr>
        <p:spPr>
          <a:xfrm>
            <a:off x="203040" y="1433520"/>
            <a:ext cx="3670560" cy="2390760"/>
          </a:xfrm>
          <a:prstGeom prst="rect">
            <a:avLst/>
          </a:prstGeom>
          <a:gradFill rotWithShape="0">
            <a:gsLst>
              <a:gs pos="0">
                <a:srgbClr val="9dc6fb"/>
              </a:gs>
              <a:gs pos="100000">
                <a:srgbClr val="d7eaff"/>
              </a:gs>
            </a:gsLst>
            <a:lin ang="16200000"/>
          </a:gradFill>
          <a:ln w="9360">
            <a:solidFill>
              <a:srgbClr val="5b9bd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36000" tIns="10800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ไทยมีศักยภาพตลอดช่วงวั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การเกิดอย่างมีคุณภาพและการมีพัฒนาการสมวั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การศึกษาที่มีคุณภาพ  ให้ความรู้และทักษะชีว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ทักษะและทักษะการทำงา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ทักษะและสมรรถนะอย่างต่อเนื่อ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ทักษะความรู้ความสามารถในการดำรงชีว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9"/>
          <p:cNvSpPr/>
          <p:nvPr/>
        </p:nvSpPr>
        <p:spPr>
          <a:xfrm>
            <a:off x="4025880" y="1446120"/>
            <a:ext cx="4038480" cy="2390760"/>
          </a:xfrm>
          <a:prstGeom prst="rect">
            <a:avLst/>
          </a:prstGeom>
          <a:gradFill rotWithShape="0">
            <a:gsLst>
              <a:gs pos="0">
                <a:srgbClr val="ffae8c"/>
              </a:gs>
              <a:gs pos="100000">
                <a:srgbClr val="ffddcd"/>
              </a:gs>
            </a:gsLst>
            <a:lin ang="16200000"/>
          </a:gradFill>
          <a:ln w="9360">
            <a:solidFill>
              <a:srgbClr val="ed7d31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36000" tIns="10800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ไทยทุกช่วงวัยมีความมั่นคงในชีว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ความพร้อมให้เด็กปฐมวัยเป็นคนไทยที่มีความมั่นคงในชีวิต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โอกาสทางการศึกษาในระดับสูง ให้เด็กวัยเรีย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         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ีความมั่นคงในชีว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โอกาสในการศึกษาระดับสูงและประสบการณ์ทำงานจริ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ความมั่นคงในชีวิตให้แรงงา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ความมั่นคงในชีวิตของผู้สูงอาย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0"/>
          <p:cNvSpPr/>
          <p:nvPr/>
        </p:nvSpPr>
        <p:spPr>
          <a:xfrm>
            <a:off x="8217000" y="1446120"/>
            <a:ext cx="3771720" cy="284724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36000" tIns="10800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ไทยมีครอบครัวอบอุ่นเข้มแข็ง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ีคุณธรรมจริยธรร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ความอบอุ่นให้เด็กปฐมวั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รากฐานจริยธรรม คุณธรรมเพื่อความอยู่ดีมีสุ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สริมสร้างภูมิคุ้มกันเพื่อรองรับการเปลี่ยนแปลงและ</a:t>
            </a:r>
            <a:br>
              <a:rPr sz="1500"/>
            </a:b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             การก้าวสู่การเป็นผู้ใหญ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ความอบอุ่นในครอบครัวสำหรับวัยแรงงา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นวทาง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สริมสร้างคุณค่าและความอบอุ่นในวัยผู้สูงอาย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สี่เหลี่ยมผืนผ้า 96"/>
          <p:cNvSpPr/>
          <p:nvPr/>
        </p:nvSpPr>
        <p:spPr>
          <a:xfrm>
            <a:off x="8521560" y="51944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ตัวเชื่อมต่อตรง 98"/>
          <p:cNvSpPr/>
          <p:nvPr/>
        </p:nvSpPr>
        <p:spPr>
          <a:xfrm flipH="1">
            <a:off x="6082920" y="4051440"/>
            <a:ext cx="25560" cy="20318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ตัวเชื่อมต่อตรง 100"/>
          <p:cNvSpPr/>
          <p:nvPr/>
        </p:nvSpPr>
        <p:spPr>
          <a:xfrm flipH="1">
            <a:off x="7746840" y="4025880"/>
            <a:ext cx="12960" cy="10922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ตัวเชื่อมต่อตรง 101"/>
          <p:cNvSpPr/>
          <p:nvPr/>
        </p:nvSpPr>
        <p:spPr>
          <a:xfrm flipH="1">
            <a:off x="9410760" y="3860640"/>
            <a:ext cx="25200" cy="218448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ตัวเชื่อมต่อตรง 102"/>
          <p:cNvSpPr/>
          <p:nvPr/>
        </p:nvSpPr>
        <p:spPr>
          <a:xfrm flipH="1">
            <a:off x="11390040" y="3963960"/>
            <a:ext cx="3240" cy="134640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สี่เหลี่ยมผืนผ้า 105"/>
          <p:cNvSpPr/>
          <p:nvPr/>
        </p:nvSpPr>
        <p:spPr>
          <a:xfrm>
            <a:off x="5460840" y="6032520"/>
            <a:ext cx="1816200" cy="94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7"/>
          <p:cNvSpPr/>
          <p:nvPr/>
        </p:nvSpPr>
        <p:spPr>
          <a:xfrm>
            <a:off x="5410080" y="5994360"/>
            <a:ext cx="85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Angsana New"/>
              </a:rPr>
              <a:t>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4"/>
          <p:cNvSpPr/>
          <p:nvPr/>
        </p:nvSpPr>
        <p:spPr>
          <a:xfrm>
            <a:off x="6756480" y="6324480"/>
            <a:ext cx="7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Angsana New"/>
              </a:rPr>
              <a:t>ล้านบา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สี่เหลี่ยมผืนผ้า 115"/>
          <p:cNvSpPr/>
          <p:nvPr/>
        </p:nvSpPr>
        <p:spPr>
          <a:xfrm>
            <a:off x="6870600" y="5156280"/>
            <a:ext cx="1816200" cy="94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สี่เหลี่ยมผืนผ้า 116"/>
          <p:cNvSpPr/>
          <p:nvPr/>
        </p:nvSpPr>
        <p:spPr>
          <a:xfrm>
            <a:off x="8432640" y="6019920"/>
            <a:ext cx="1816200" cy="94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สี่เหลี่ยมผืนผ้า 118"/>
          <p:cNvSpPr/>
          <p:nvPr/>
        </p:nvSpPr>
        <p:spPr>
          <a:xfrm>
            <a:off x="10159920" y="5130720"/>
            <a:ext cx="1816200" cy="94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7"/>
          <p:cNvSpPr/>
          <p:nvPr/>
        </p:nvSpPr>
        <p:spPr>
          <a:xfrm>
            <a:off x="10083960" y="5029200"/>
            <a:ext cx="85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Angsana New"/>
              </a:rPr>
              <a:t>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4"/>
          <p:cNvSpPr/>
          <p:nvPr/>
        </p:nvSpPr>
        <p:spPr>
          <a:xfrm>
            <a:off x="11455560" y="5410080"/>
            <a:ext cx="7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Angsana New"/>
              </a:rPr>
              <a:t>ล้านบา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7"/>
          <p:cNvSpPr/>
          <p:nvPr/>
        </p:nvSpPr>
        <p:spPr>
          <a:xfrm>
            <a:off x="6832440" y="5079960"/>
            <a:ext cx="85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Angsana New"/>
              </a:rPr>
              <a:t>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7"/>
          <p:cNvSpPr/>
          <p:nvPr/>
        </p:nvSpPr>
        <p:spPr>
          <a:xfrm>
            <a:off x="8394840" y="5956200"/>
            <a:ext cx="85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Angsana New"/>
              </a:rPr>
              <a:t>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4"/>
          <p:cNvSpPr/>
          <p:nvPr/>
        </p:nvSpPr>
        <p:spPr>
          <a:xfrm>
            <a:off x="9715680" y="6286680"/>
            <a:ext cx="66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Angsana New"/>
              </a:rPr>
              <a:t>ล้านบา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4"/>
          <p:cNvSpPr/>
          <p:nvPr/>
        </p:nvSpPr>
        <p:spPr>
          <a:xfrm>
            <a:off x="8191440" y="5448240"/>
            <a:ext cx="6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Angsana New"/>
              </a:rPr>
              <a:t>ล้านบา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สี่เหลี่ยมผืนผ้า 120"/>
          <p:cNvSpPr/>
          <p:nvPr/>
        </p:nvSpPr>
        <p:spPr>
          <a:xfrm>
            <a:off x="0" y="5486400"/>
            <a:ext cx="1828800" cy="703800"/>
          </a:xfrm>
          <a:prstGeom prst="rect">
            <a:avLst/>
          </a:prstGeom>
          <a:solidFill>
            <a:srgbClr val="ffffff"/>
          </a:solidFill>
          <a:ln w="55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37,574.06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7"/>
          <p:cNvSpPr/>
          <p:nvPr/>
        </p:nvSpPr>
        <p:spPr>
          <a:xfrm>
            <a:off x="0" y="5362560"/>
            <a:ext cx="8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Angsana New"/>
              </a:rPr>
              <a:t>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4"/>
          <p:cNvSpPr/>
          <p:nvPr/>
        </p:nvSpPr>
        <p:spPr>
          <a:xfrm>
            <a:off x="1181160" y="5651640"/>
            <a:ext cx="7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ngsana New"/>
              </a:rPr>
              <a:t>   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Angsana New"/>
              </a:rPr>
              <a:t>ล้านบา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1"/>
          <p:cNvSpPr/>
          <p:nvPr/>
        </p:nvSpPr>
        <p:spPr>
          <a:xfrm>
            <a:off x="0" y="2997360"/>
            <a:ext cx="1282680" cy="703800"/>
          </a:xfrm>
          <a:prstGeom prst="rect">
            <a:avLst/>
          </a:prstGeom>
          <a:solidFill>
            <a:srgbClr val="f4b18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ีงบประมา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6"/>
          <p:cNvSpPr/>
          <p:nvPr/>
        </p:nvSpPr>
        <p:spPr>
          <a:xfrm>
            <a:off x="228600" y="1447920"/>
            <a:ext cx="1473120" cy="55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เด็นยุทธศาสตร์ 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7"/>
          <p:cNvSpPr/>
          <p:nvPr/>
        </p:nvSpPr>
        <p:spPr>
          <a:xfrm>
            <a:off x="8242200" y="1447920"/>
            <a:ext cx="138456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เด็นยุทธศาสตร์ ที่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28"/>
          <p:cNvSpPr/>
          <p:nvPr/>
        </p:nvSpPr>
        <p:spPr>
          <a:xfrm>
            <a:off x="4038480" y="1460520"/>
            <a:ext cx="1473480" cy="55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เด็นยุทธศาสตร์ ที่ </a:t>
            </a:r>
            <a:r>
              <a:rPr b="1" lang="th-TH" sz="15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กลุ่ม 43"/>
          <p:cNvGrpSpPr/>
          <p:nvPr/>
        </p:nvGrpSpPr>
        <p:grpSpPr>
          <a:xfrm>
            <a:off x="8101080" y="746280"/>
            <a:ext cx="1892160" cy="5273640"/>
            <a:chOff x="8101080" y="746280"/>
            <a:chExt cx="1892160" cy="5273640"/>
          </a:xfrm>
        </p:grpSpPr>
        <p:grpSp>
          <p:nvGrpSpPr>
            <p:cNvPr id="204" name="Rounded Rectangle 3"/>
            <p:cNvGrpSpPr/>
            <p:nvPr/>
          </p:nvGrpSpPr>
          <p:grpSpPr>
            <a:xfrm>
              <a:off x="8101440" y="746280"/>
              <a:ext cx="1865520" cy="976320"/>
              <a:chOff x="8101440" y="746280"/>
              <a:chExt cx="1865520" cy="976320"/>
            </a:xfrm>
          </p:grpSpPr>
          <p:pic>
            <p:nvPicPr>
              <p:cNvPr id="205" name="Rounded 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101440" y="746280"/>
                <a:ext cx="1865520" cy="9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172720" y="817560"/>
                <a:ext cx="1719720" cy="82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วัยแรงงาน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ea typeface="TH SarabunPSK"/>
                  </a:rPr>
                  <a:t>(15-59 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ปี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ea typeface="TH SarabunPSK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Rounded Rectangle 11"/>
            <p:cNvSpPr/>
            <p:nvPr/>
          </p:nvSpPr>
          <p:spPr>
            <a:xfrm>
              <a:off x="8127720" y="4686840"/>
              <a:ext cx="1865520" cy="13330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ส่งเสริมความอบอุ่นในครอบครัวสำหรับวัยแรงงาน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ounded Rectangle 16"/>
            <p:cNvSpPr/>
            <p:nvPr/>
          </p:nvSpPr>
          <p:spPr>
            <a:xfrm>
              <a:off x="8127720" y="3252600"/>
              <a:ext cx="1865520" cy="13345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สร้างความมั่นคงในชีวิตให้แรงงาน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ounded Rectangle 21"/>
            <p:cNvSpPr/>
            <p:nvPr/>
          </p:nvSpPr>
          <p:spPr>
            <a:xfrm>
              <a:off x="8101080" y="1823040"/>
              <a:ext cx="1865520" cy="133452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พัฒนาทักษะและสมรรถนะอย่างต่อเนื่อง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กลุ่ม 42"/>
          <p:cNvGrpSpPr/>
          <p:nvPr/>
        </p:nvGrpSpPr>
        <p:grpSpPr>
          <a:xfrm>
            <a:off x="6122880" y="733320"/>
            <a:ext cx="1892520" cy="5270760"/>
            <a:chOff x="6122880" y="733320"/>
            <a:chExt cx="1892520" cy="5270760"/>
          </a:xfrm>
        </p:grpSpPr>
        <p:grpSp>
          <p:nvGrpSpPr>
            <p:cNvPr id="211" name="Rounded Rectangle 4"/>
            <p:cNvGrpSpPr/>
            <p:nvPr/>
          </p:nvGrpSpPr>
          <p:grpSpPr>
            <a:xfrm>
              <a:off x="6126120" y="733320"/>
              <a:ext cx="1865880" cy="976680"/>
              <a:chOff x="6126120" y="733320"/>
              <a:chExt cx="1865880" cy="976680"/>
            </a:xfrm>
          </p:grpSpPr>
          <p:pic>
            <p:nvPicPr>
              <p:cNvPr id="212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26120" y="733320"/>
                <a:ext cx="1865880" cy="9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6194520" y="804240"/>
                <a:ext cx="1720440" cy="8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วัยรุ่น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ea typeface="TH SarabunPSK"/>
                  </a:rPr>
                  <a:t>/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นักศึกษา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ea typeface="TH SarabunPSK"/>
                  </a:rPr>
                  <a:t>(15-21 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ปี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ea typeface="TH SarabunPSK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Rounded Rectangle 12"/>
            <p:cNvSpPr/>
            <p:nvPr/>
          </p:nvSpPr>
          <p:spPr>
            <a:xfrm>
              <a:off x="6149520" y="4669200"/>
              <a:ext cx="1865880" cy="13348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9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เสริมสร้างภูมิคุ้มกันเพื่อรองรับการเปลี่ยนแปลงและการก้าวสู่การเป็นผู้ใหญ่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17"/>
            <p:cNvSpPr/>
            <p:nvPr/>
          </p:nvSpPr>
          <p:spPr>
            <a:xfrm>
              <a:off x="6149520" y="3237840"/>
              <a:ext cx="1865880" cy="1333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9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พัฒนาโอกาสในการศึกษาระดับสูงและประสบการณ์การทำงานจริง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ounded Rectangle 22"/>
            <p:cNvSpPr/>
            <p:nvPr/>
          </p:nvSpPr>
          <p:spPr>
            <a:xfrm>
              <a:off x="6122880" y="1808280"/>
              <a:ext cx="1865880" cy="133308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ส่งเสริมทักษะชีวิตและทักษะการทำงาน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ounded Rectangle 5"/>
          <p:cNvGrpSpPr/>
          <p:nvPr/>
        </p:nvGrpSpPr>
        <p:grpSpPr>
          <a:xfrm>
            <a:off x="4127400" y="706320"/>
            <a:ext cx="1865520" cy="982800"/>
            <a:chOff x="4127400" y="706320"/>
            <a:chExt cx="1865520" cy="982800"/>
          </a:xfrm>
        </p:grpSpPr>
        <p:pic>
          <p:nvPicPr>
            <p:cNvPr id="218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4127400" y="706320"/>
              <a:ext cx="18655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195800" y="777960"/>
              <a:ext cx="1722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วัยเรียน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(5-14 </a:t>
              </a: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ปี</a:t>
              </a: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ounded Rectangle 13"/>
          <p:cNvSpPr/>
          <p:nvPr/>
        </p:nvSpPr>
        <p:spPr>
          <a:xfrm>
            <a:off x="4151160" y="4664160"/>
            <a:ext cx="1863720" cy="1339920"/>
          </a:xfrm>
          <a:prstGeom prst="roundRect">
            <a:avLst>
              <a:gd name="adj" fmla="val 16667"/>
            </a:avLst>
          </a:prstGeom>
          <a:solidFill>
            <a:srgbClr val="70ad47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รากฐานจริยธรรม คุณธรรมเพื่อความอยู่ดีมีสุ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18"/>
          <p:cNvSpPr/>
          <p:nvPr/>
        </p:nvSpPr>
        <p:spPr>
          <a:xfrm>
            <a:off x="4151160" y="3225960"/>
            <a:ext cx="1863720" cy="13381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โอกาสทางการศึกษาในระดับสู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ให้เด็กวัยเรียน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ีความมั่นคงในชีวิต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23"/>
          <p:cNvSpPr/>
          <p:nvPr/>
        </p:nvSpPr>
        <p:spPr>
          <a:xfrm>
            <a:off x="4122720" y="1822320"/>
            <a:ext cx="1865160" cy="134172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การศึกษา ที่มีคุณภาพให้ความรู้และทักษะชีวิ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กลุ่ม 44"/>
          <p:cNvGrpSpPr/>
          <p:nvPr/>
        </p:nvGrpSpPr>
        <p:grpSpPr>
          <a:xfrm>
            <a:off x="10115640" y="733320"/>
            <a:ext cx="1892160" cy="5270760"/>
            <a:chOff x="10115640" y="733320"/>
            <a:chExt cx="1892160" cy="5270760"/>
          </a:xfrm>
        </p:grpSpPr>
        <p:grpSp>
          <p:nvGrpSpPr>
            <p:cNvPr id="224" name="Rounded Rectangle 6"/>
            <p:cNvGrpSpPr/>
            <p:nvPr/>
          </p:nvGrpSpPr>
          <p:grpSpPr>
            <a:xfrm>
              <a:off x="10119240" y="733320"/>
              <a:ext cx="1865520" cy="976680"/>
              <a:chOff x="10119240" y="733320"/>
              <a:chExt cx="1865520" cy="976680"/>
            </a:xfrm>
          </p:grpSpPr>
          <p:pic>
            <p:nvPicPr>
              <p:cNvPr id="225" name="Rounded 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119240" y="733320"/>
                <a:ext cx="1865520" cy="9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10187280" y="804240"/>
                <a:ext cx="1720080" cy="8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วัยผู้สูงอายุ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ea typeface="TH SarabunPSK"/>
                  </a:rPr>
                  <a:t>(60 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ปีขึ้นไป</a:t>
                </a:r>
                <a:r>
                  <a:rPr b="1" lang="th-TH" sz="2600" spc="-1" strike="noStrike">
                    <a:solidFill>
                      <a:srgbClr val="000000"/>
                    </a:solidFill>
                    <a:latin typeface="TH SarabunPSK"/>
                    <a:ea typeface="TH SarabunPSK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ounded Rectangle 14"/>
            <p:cNvSpPr/>
            <p:nvPr/>
          </p:nvSpPr>
          <p:spPr>
            <a:xfrm>
              <a:off x="10142280" y="4669200"/>
              <a:ext cx="1865520" cy="13348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เสริมสร้างคุณค่าและความอบอุ่นในวัยผู้สูงอาย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ounded Rectangle 19"/>
            <p:cNvSpPr/>
            <p:nvPr/>
          </p:nvSpPr>
          <p:spPr>
            <a:xfrm>
              <a:off x="10142280" y="3237840"/>
              <a:ext cx="1865520" cy="1333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สร้างความมั่นคงในชีวิตของผู้สูงอาย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ed Rectangle 24"/>
            <p:cNvSpPr/>
            <p:nvPr/>
          </p:nvSpPr>
          <p:spPr>
            <a:xfrm>
              <a:off x="10115640" y="1808280"/>
              <a:ext cx="1865520" cy="133308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พัฒนาทักษะความรู้ ความสามารถในการดำรงชีวิต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กลุ่ม 39"/>
          <p:cNvGrpSpPr/>
          <p:nvPr/>
        </p:nvGrpSpPr>
        <p:grpSpPr>
          <a:xfrm>
            <a:off x="163440" y="660240"/>
            <a:ext cx="1855800" cy="6461280"/>
            <a:chOff x="163440" y="660240"/>
            <a:chExt cx="1855800" cy="6461280"/>
          </a:xfrm>
        </p:grpSpPr>
        <p:sp>
          <p:nvSpPr>
            <p:cNvPr id="231" name="Rounded Rectangle 7"/>
            <p:cNvSpPr/>
            <p:nvPr/>
          </p:nvSpPr>
          <p:spPr>
            <a:xfrm>
              <a:off x="171360" y="1591560"/>
              <a:ext cx="1829160" cy="170028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คนไทยมีศักยภาพตลอดช่วงวั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ounded Rectangle 8"/>
            <p:cNvSpPr/>
            <p:nvPr/>
          </p:nvSpPr>
          <p:spPr>
            <a:xfrm>
              <a:off x="190080" y="3168000"/>
              <a:ext cx="1829160" cy="1700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คนไทยทุกช่วงวัยมีความมั่นคงในชีวิ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ounded Rectangle 9"/>
            <p:cNvSpPr/>
            <p:nvPr/>
          </p:nvSpPr>
          <p:spPr>
            <a:xfrm>
              <a:off x="163440" y="4681800"/>
              <a:ext cx="1829160" cy="2439720"/>
            </a:xfrm>
            <a:custGeom>
              <a:avLst/>
              <a:gdLst>
                <a:gd name="textAreaLeft" fmla="*/ 89280 w 1829160"/>
                <a:gd name="textAreaRight" fmla="*/ 1739880 w 1829160"/>
                <a:gd name="textAreaTop" fmla="*/ 89280 h 2439720"/>
                <a:gd name="textAreaBottom" fmla="*/ 2350440 h 2439720"/>
              </a:gdLst>
              <a:ahLst/>
              <a:rect l="textAreaLeft" t="textAreaTop" r="textAreaRight" b="textAreaBottom"/>
              <a:pathLst>
                <a:path w="21600" h="28809">
                  <a:moveTo>
                    <a:pt x="3600" y="0"/>
                  </a:moveTo>
                  <a:arcTo wR="3600" hR="3600" stAng="16200000" swAng="-5400000"/>
                  <a:lnTo>
                    <a:pt x="0" y="25209"/>
                  </a:lnTo>
                  <a:arcTo wR="3600" hR="3600" stAng="10800000" swAng="-5400000"/>
                  <a:lnTo>
                    <a:pt x="18000" y="288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d6821"/>
                </a:gs>
                <a:gs pos="100000">
                  <a:srgbClr val="6fb53f"/>
                </a:gs>
              </a:gsLst>
              <a:lin ang="16200000"/>
            </a:gra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คนไทยมีครอบครัวอบอุ่นเข้มแข็ง มีคุณธรรมจริยธรร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TextBox 25"/>
            <p:cNvGrpSpPr/>
            <p:nvPr/>
          </p:nvGrpSpPr>
          <p:grpSpPr>
            <a:xfrm>
              <a:off x="267840" y="660240"/>
              <a:ext cx="1524240" cy="1366200"/>
              <a:chOff x="267840" y="660240"/>
              <a:chExt cx="1524240" cy="1366200"/>
            </a:xfrm>
          </p:grpSpPr>
          <p:pic>
            <p:nvPicPr>
              <p:cNvPr id="235" name="TextBox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67840" y="660240"/>
                <a:ext cx="1524240" cy="136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5120" y="680400"/>
                <a:ext cx="1486440" cy="74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200" spc="-1" strike="noStrike">
                    <a:solidFill>
                      <a:srgbClr val="000000"/>
                    </a:solidFill>
                    <a:latin typeface="TH SarabunPSK"/>
                    <a:cs typeface="TH SarabunPSK"/>
                  </a:rPr>
                  <a:t>เป้าหมายการพัฒนา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5840" y="-360"/>
            <a:ext cx="12020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0070c0"/>
                </a:solidFill>
                <a:latin typeface="TH SarabunPSK"/>
                <a:cs typeface="TH SarabunPSK"/>
              </a:rPr>
              <a:t>เป้าหมายหลัก การพัฒนาศักยภาพคนตามช่วงวัย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38" name="Rounded Rectangle 2"/>
          <p:cNvGrpSpPr/>
          <p:nvPr/>
        </p:nvGrpSpPr>
        <p:grpSpPr>
          <a:xfrm>
            <a:off x="2163600" y="719280"/>
            <a:ext cx="1865520" cy="981000"/>
            <a:chOff x="2163600" y="719280"/>
            <a:chExt cx="1865520" cy="981000"/>
          </a:xfrm>
        </p:grpSpPr>
        <p:pic>
          <p:nvPicPr>
            <p:cNvPr id="239" name="Rounded Rectangle 2" descr=""/>
            <p:cNvPicPr/>
            <p:nvPr/>
          </p:nvPicPr>
          <p:blipFill>
            <a:blip r:embed="rId6"/>
            <a:stretch/>
          </p:blipFill>
          <p:spPr>
            <a:xfrm>
              <a:off x="2163600" y="719280"/>
              <a:ext cx="18655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235240" y="790560"/>
              <a:ext cx="172080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เด็กปฐมวั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(0-5 </a:t>
              </a: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ปี</a:t>
              </a:r>
              <a:r>
                <a:rPr b="1" lang="th-TH" sz="26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ounded Rectangle 10"/>
          <p:cNvSpPr/>
          <p:nvPr/>
        </p:nvSpPr>
        <p:spPr>
          <a:xfrm>
            <a:off x="2157480" y="4680000"/>
            <a:ext cx="1861920" cy="1339920"/>
          </a:xfrm>
          <a:prstGeom prst="roundRect">
            <a:avLst>
              <a:gd name="adj" fmla="val 16667"/>
            </a:avLst>
          </a:prstGeom>
          <a:solidFill>
            <a:srgbClr val="70ad47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ความอบอุ่นให้เด็กปฐมวั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20"/>
          <p:cNvSpPr/>
          <p:nvPr/>
        </p:nvSpPr>
        <p:spPr>
          <a:xfrm>
            <a:off x="2185920" y="1790640"/>
            <a:ext cx="1863720" cy="13334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การเกิดอย่างมีคุณภาพและมีพัฒนาการสมวั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5"/>
          <p:cNvSpPr/>
          <p:nvPr/>
        </p:nvSpPr>
        <p:spPr>
          <a:xfrm>
            <a:off x="2190600" y="3244680"/>
            <a:ext cx="1862280" cy="13399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ความพร้อมให้เด็กปฐมวัยเป็นคนไทยที่มีความมั่นคง  ในชีวิต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iagram 28" descr=""/>
          <p:cNvPicPr/>
          <p:nvPr/>
        </p:nvPicPr>
        <p:blipFill>
          <a:blip r:embed="rId7"/>
          <a:stretch/>
        </p:blipFill>
        <p:spPr>
          <a:xfrm>
            <a:off x="2084400" y="6102360"/>
            <a:ext cx="9858240" cy="736560"/>
          </a:xfrm>
          <a:prstGeom prst="rect">
            <a:avLst/>
          </a:prstGeom>
          <a:ln w="0">
            <a:noFill/>
          </a:ln>
        </p:spPr>
      </p:pic>
      <p:sp>
        <p:nvSpPr>
          <p:cNvPr id="245" name="ตัวยึดหมายเลขภาพนิ่ง 35"/>
          <p:cNvSpPr/>
          <p:nvPr/>
        </p:nvSpPr>
        <p:spPr>
          <a:xfrm>
            <a:off x="9448920" y="648828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200" y="-360"/>
            <a:ext cx="12018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่าง</a:t>
            </a:r>
            <a:r>
              <a:rPr b="1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 </a:t>
            </a:r>
            <a:r>
              <a:rPr b="1" lang="th-TH" sz="3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จุดเน้น การพัฒนาศักยภาพคนตามช่วงวัย ประเด็นบูรณาการปีงบประมาณ </a:t>
            </a:r>
            <a:r>
              <a:rPr b="1" lang="th-TH" sz="3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561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440" y="728640"/>
          <a:ext cx="12034800" cy="6019920"/>
        </p:xfrm>
        <a:graphic>
          <a:graphicData uri="http://schemas.openxmlformats.org/drawingml/2006/table">
            <a:tbl>
              <a:tblPr/>
              <a:tblGrid>
                <a:gridCol w="1052640"/>
                <a:gridCol w="2195640"/>
                <a:gridCol w="2197080"/>
                <a:gridCol w="2197080"/>
                <a:gridCol w="2195280"/>
                <a:gridCol w="2197080"/>
              </a:tblGrid>
              <a:tr h="533880">
                <a:tc>
                  <a:txBody>
                    <a:bodyPr lIns="90000" rIns="900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e75b6"/>
                      </a:solidFill>
                    </a:lnR>
                    <a:lnT>
                      <a:noFill/>
                    </a:lnT>
                    <a:lnB w="576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ในครรภ์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แรกเกิด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ฐมวั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ด็กวัยเรีย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วัยรุ่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วัยแรง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ูงวั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1750680"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นไทยมีศักยภาพตลอดช่วงวั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พัฒนากระบวนการทำให้เด็กเกิดอย่างมีคุณภาพ และมีพัฒนาการตามวั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พิ่มโอกาสการเข้าถึงบริการที่มีคุณภาพของเด็กแรกเกิด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ฐมวัย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นับสนุนการพัฒนาความรู้และทักษะชีวิต โดยมุ่งเน้นการพัฒนาคุณภาพของการศึกษาให้เท่าเทียมกันมากขึ้น โดยเฉพาะในพื้นที่ห่างไก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/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นับสนุนการพัฒนาทักษะชีวิตและทักษะการทำ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กลุ่มเป้าหมายเฉพาะได้รับการฝึกอบรมเพื่อเพิ่มโอกาสในการประกอบอาชี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ุขภาพคนวัยทำ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สริมสร้างทักษะของผู้สูงอายุให้อยู่ในสังคมอย่างมีคุณค่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ตรียมความพร้อมเป็นผู้สูงอายุที่มีคุณภา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3454200"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นไทยทุกช่วงวัยมีความมั่นคงในชีวิ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ด็กปฐมวัยได้รับการพัฒนาจากศูนย์เด็กเล็กที่มีมาตรฐา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ด็กปฐมวัยมีโอกาสเข้าถึงสิทธิและบริการต่างๆ ของรั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ให้โอกาสทางการศึกษาแก่เด็กนอกระบบโรงเรีย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กระจายการศึกษาที่มีคุณภาพเพิ่มความเท่าเทียมกันระหว่างพื้นที่ โดยสร้างแรงจูงใจให้ครูกระจายตัว ทั้งมาตรการด้านการเงิน สวัสดิการบ้านพัก โอกาสในการพัฒนาคร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นับสนุนการสร้างโอกาสในการศึกษาของเด็กด้อยโอกา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โอกาสในการศึกษาที่สูงขึ้น และความพร้อมในทักษะอาชีพ โดยเฉพาะในกลุ่มประชากรร้อยละ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40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ที่มีรายได้ต่ำสุ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การมีรายได้ระหว่างเรีย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ร้างที่อยู่อาศัยให้แก่ผู้มีรายได้น้อ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ร้างโอกาสในการประกอบอาชีพอย่างยั่งยืน โดยเฉพาะกลุ่มเป้าหมายร้อยละ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40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ที่มีรายได้ต่ำสุ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ผู้สูงอายุได้รับการพัฒนาคุณภาพชีวิต และเข้าถึงสวัสดิการสังคม พร้อมทั้งเพิ่มสวัสดิการสังคมให้แก่ผู้สูงอายุ  กลุ่มประชากรร้อยละ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40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ที่มีรายได้ต่ำสุ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ผู้สูงอายุได้รับการประเมินทั้งด้านสุขภาพและสังค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2516040">
                <a:tc>
                  <a:txBody>
                    <a:bodyPr lIns="90000" rIns="90000" tIns="23400" bIns="23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คนไทยมีครอบครัวอบอุ่นเข้มแข็งมีคุณธรรมจริยธรร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เตรียมพร้อมครอบครัวก่อนมีบุตร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รวมปู่ย่าตายาย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ea typeface="TH SarabunPSK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ให้ความรู้พ่อแม่ในเรื่องโภชนาการที่เหมาะสม การเลี้ยงลูกด้วยนมแม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้องกันความรุนแรงที่มีต่อเด็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ร้างความร่วมมือในการพัฒนาคุณธรรมและจริยธรร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้องกันความรุนแรงที่มีต่อเด็กในวัยเรีย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้องกันความเสี่ยงการตั้งครรภ์ในวัยรุ่นในกลุ่มเด็กวัยเรีย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้องกันพฤติกรรมเสี่ยงของวัยรุ่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้องกันพฤติกรรมมั่วสุม การขับขี่ยานพาหนะกระทำผิดกฎหมา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ป้องกันลดพฤติกรรมความรุนแรงของวัยรุ่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สุขภาพกาย ใจ สำหรับวัยแรง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ส่งเสริมกิจกรรมครอบครั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0000" rIns="90000" tIns="23400" bIns="23400" anchor="t">
                      <a:noAutofit/>
                    </a:bodyPr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ผู้สูงอายุมีคุณค่าทางสังคม และได้รับการดูแลอย่างมีคุณภาพ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indent="-120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H SarabunPSK"/>
                          <a:cs typeface="TH SarabunPSK"/>
                        </a:rPr>
                        <a:t>ผู้สูงอายุได้รับการส่งเสริมป้องกันปัญหาสุขภาพจิ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e75b6"/>
                      </a:solidFill>
                    </a:lnL>
                    <a:lnR w="5760">
                      <a:solidFill>
                        <a:srgbClr val="2e75b6"/>
                      </a:solidFill>
                    </a:lnR>
                    <a:lnT w="5760">
                      <a:solidFill>
                        <a:srgbClr val="2e75b6"/>
                      </a:solidFill>
                    </a:lnT>
                    <a:lnB w="5760">
                      <a:solidFill>
                        <a:srgbClr val="2e75b6"/>
                      </a:solidFill>
                    </a:lnB>
                    <a:solidFill>
                      <a:srgbClr val="d0cece"/>
                    </a:solidFill>
                  </a:tcPr>
                </a:tc>
              </a:tr>
            </a:tbl>
          </a:graphicData>
        </a:graphic>
      </p:graphicFrame>
      <p:sp>
        <p:nvSpPr>
          <p:cNvPr id="248" name="ตัวยึดหมายเลขภาพนิ่ง 7"/>
          <p:cNvSpPr/>
          <p:nvPr/>
        </p:nvSpPr>
        <p:spPr>
          <a:xfrm>
            <a:off x="9448920" y="64533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สี่เหลี่ยมผืนผ้า 3"/>
          <p:cNvGrpSpPr/>
          <p:nvPr/>
        </p:nvGrpSpPr>
        <p:grpSpPr>
          <a:xfrm>
            <a:off x="-42840" y="-85680"/>
            <a:ext cx="12600000" cy="944640"/>
            <a:chOff x="-42840" y="-85680"/>
            <a:chExt cx="12600000" cy="944640"/>
          </a:xfrm>
        </p:grpSpPr>
        <p:pic>
          <p:nvPicPr>
            <p:cNvPr id="250" name="สี่เหลี่ยมผืนผ้า 3" descr=""/>
            <p:cNvPicPr/>
            <p:nvPr/>
          </p:nvPicPr>
          <p:blipFill>
            <a:blip r:embed="rId1"/>
            <a:stretch/>
          </p:blipFill>
          <p:spPr>
            <a:xfrm>
              <a:off x="-42840" y="-85680"/>
              <a:ext cx="1260000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0" y="14400"/>
              <a:ext cx="12192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(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ร่าง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)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ความเชื่อมโยงแผนบูรณาการ เรื่อง การพัฒนาศักยภาพคนตามช่วงวัย ปี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256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59"/>
          <p:cNvSpPr/>
          <p:nvPr/>
        </p:nvSpPr>
        <p:spPr>
          <a:xfrm>
            <a:off x="4846680" y="1244520"/>
            <a:ext cx="10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การปฏิบัต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1"/>
          <p:cNvSpPr/>
          <p:nvPr/>
        </p:nvSpPr>
        <p:spPr>
          <a:xfrm>
            <a:off x="1706400" y="2291400"/>
            <a:ext cx="10444320" cy="673200"/>
          </a:xfrm>
          <a:prstGeom prst="rect">
            <a:avLst/>
          </a:prstGeom>
          <a:solidFill>
            <a:srgbClr val="ed7d31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้าหมายที่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ไทยมีศักยภาพตลอดช่วงวั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 </a:t>
            </a:r>
            <a:r>
              <a:rPr b="1" lang="en-US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th-TH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5 </a:t>
            </a:r>
            <a:r>
              <a:rPr b="1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ประชากรกลุ่มเป้าหมายมีศักยภาพเพิ่มขึ้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สี่เหลี่ยมผืนผ้า 76"/>
          <p:cNvSpPr/>
          <p:nvPr/>
        </p:nvSpPr>
        <p:spPr>
          <a:xfrm>
            <a:off x="47520" y="4414680"/>
            <a:ext cx="2451240" cy="1008360"/>
          </a:xfrm>
          <a:prstGeom prst="rect">
            <a:avLst/>
          </a:prstGeom>
          <a:solidFill>
            <a:srgbClr val="f8cbad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1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ที่มีพัฒนาการสมวัยไม่น้อยกว่า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2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ตั้งครรภ์คุณภาพ 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3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อายุ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0-5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 สูงดีสมส่วน ไม่น้อยกว่า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4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ของเด็กปฐมวัยมีพฤติกรรมสุชภาพที่พึงประสงค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สี่เหลี่ยมผืนผ้า 77"/>
          <p:cNvSpPr/>
          <p:nvPr/>
        </p:nvSpPr>
        <p:spPr>
          <a:xfrm>
            <a:off x="2638440" y="4603680"/>
            <a:ext cx="2227320" cy="1116000"/>
          </a:xfrm>
          <a:prstGeom prst="rect">
            <a:avLst/>
          </a:prstGeom>
          <a:solidFill>
            <a:srgbClr val="f8cbad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1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ไทยมี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Q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ฉลี่ยไม่ต่ำกว่า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00 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และมี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Q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ม่ต่ำกว่าเกณฑ์มาตรฐาน 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ไทยสูงดีสมส่วน ไม่น้อยกว่า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3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ของเด็กวัยเรียนมีพฤติกรรมสุชภาพที่พึงประสงค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สี่เหลี่ยมผืนผ้า 78"/>
          <p:cNvSpPr/>
          <p:nvPr/>
        </p:nvSpPr>
        <p:spPr>
          <a:xfrm>
            <a:off x="4973760" y="4524480"/>
            <a:ext cx="2097000" cy="1044360"/>
          </a:xfrm>
          <a:prstGeom prst="rect">
            <a:avLst/>
          </a:prstGeom>
          <a:solidFill>
            <a:srgbClr val="f8cbad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1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อายุ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21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 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5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ด้รับการพัฒนาทักษะชีวิตหรือทักษะการทำ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2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ของเด็กอายุ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21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 มีพฤติกรรมสุขภาพที่พึงประสงค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สี่เหลี่ยมผืนผ้า 87"/>
          <p:cNvSpPr/>
          <p:nvPr/>
        </p:nvSpPr>
        <p:spPr>
          <a:xfrm>
            <a:off x="7207200" y="4535640"/>
            <a:ext cx="2448000" cy="828360"/>
          </a:xfrm>
          <a:prstGeom prst="rect">
            <a:avLst/>
          </a:prstGeom>
          <a:solidFill>
            <a:srgbClr val="f8cbad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1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5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แรงงานที่สำเร็จการ</a:t>
            </a: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ฝึกอบรม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ด้ตามมาตรฐานการฝึ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2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ของแรงงาน มีพฤติกรรมสุขภาพที่พึงประสงค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3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คนวัยทำงานมี </a:t>
            </a:r>
            <a:r>
              <a:rPr b="1" lang="en-US" sz="11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BMI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ก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สี่เหลี่ยมผืนผ้า 89"/>
          <p:cNvSpPr/>
          <p:nvPr/>
        </p:nvSpPr>
        <p:spPr>
          <a:xfrm>
            <a:off x="9720360" y="4552920"/>
            <a:ext cx="2336760" cy="863640"/>
          </a:xfrm>
          <a:prstGeom prst="rect">
            <a:avLst/>
          </a:prstGeom>
          <a:solidFill>
            <a:srgbClr val="f8cbad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1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0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การพัฒนาทักษะกายใจของผู้สูงอาย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2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0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พฤติกรรมสุขภาพที่พึงประสงค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5"/>
          <p:cNvSpPr/>
          <p:nvPr/>
        </p:nvSpPr>
        <p:spPr>
          <a:xfrm>
            <a:off x="0" y="434880"/>
            <a:ext cx="1650960" cy="642600"/>
          </a:xfrm>
          <a:prstGeom prst="rect">
            <a:avLst/>
          </a:prstGeom>
          <a:gradFill rotWithShape="0">
            <a:gsLst>
              <a:gs pos="0">
                <a:srgbClr val="285906"/>
              </a:gs>
              <a:gs pos="100000">
                <a:srgbClr val="75ca43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ยุทธศาสตร์ชาติ </a:t>
            </a:r>
            <a:r>
              <a:rPr b="1" lang="th-TH" sz="1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0</a:t>
            </a:r>
            <a:r>
              <a:rPr b="1" lang="en-US" sz="1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ป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สี่เหลี่ยมมุมมน 56"/>
          <p:cNvSpPr/>
          <p:nvPr/>
        </p:nvSpPr>
        <p:spPr>
          <a:xfrm>
            <a:off x="1638360" y="436680"/>
            <a:ext cx="105537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้านการพัฒนาและเสริมสร้างศักยภาพค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TextBox 57"/>
          <p:cNvGrpSpPr/>
          <p:nvPr/>
        </p:nvGrpSpPr>
        <p:grpSpPr>
          <a:xfrm>
            <a:off x="-96840" y="785880"/>
            <a:ext cx="1839960" cy="715680"/>
            <a:chOff x="-96840" y="785880"/>
            <a:chExt cx="1839960" cy="715680"/>
          </a:xfrm>
        </p:grpSpPr>
        <p:pic>
          <p:nvPicPr>
            <p:cNvPr id="262" name="TextBox 57" descr=""/>
            <p:cNvPicPr/>
            <p:nvPr/>
          </p:nvPicPr>
          <p:blipFill>
            <a:blip r:embed="rId2"/>
            <a:stretch/>
          </p:blipFill>
          <p:spPr>
            <a:xfrm>
              <a:off x="-96840" y="785880"/>
              <a:ext cx="18399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858960"/>
              <a:ext cx="165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แผนพัฒนาฯฉบับที่ 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สี่เหลี่ยมมุมมน 58"/>
          <p:cNvSpPr/>
          <p:nvPr/>
        </p:nvSpPr>
        <p:spPr>
          <a:xfrm>
            <a:off x="1638360" y="887400"/>
            <a:ext cx="10553760" cy="3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ยุทธศาสตร์ที่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เสริมสร้างและพัฒนาศักยภาพทุนมนุษย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TextBox 59"/>
          <p:cNvGrpSpPr/>
          <p:nvPr/>
        </p:nvGrpSpPr>
        <p:grpSpPr>
          <a:xfrm>
            <a:off x="-128520" y="1206360"/>
            <a:ext cx="1828800" cy="712440"/>
            <a:chOff x="-128520" y="1206360"/>
            <a:chExt cx="1828800" cy="712440"/>
          </a:xfrm>
        </p:grpSpPr>
        <p:pic>
          <p:nvPicPr>
            <p:cNvPr id="266" name="TextBox 59" descr=""/>
            <p:cNvPicPr/>
            <p:nvPr/>
          </p:nvPicPr>
          <p:blipFill>
            <a:blip r:embed="rId3"/>
            <a:stretch/>
          </p:blipFill>
          <p:spPr>
            <a:xfrm>
              <a:off x="-128520" y="1206360"/>
              <a:ext cx="18288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1276200"/>
              <a:ext cx="16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เป้าหมายแผนฯ 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สี่เหลี่ยมมุมมน 62"/>
          <p:cNvSpPr/>
          <p:nvPr/>
        </p:nvSpPr>
        <p:spPr>
          <a:xfrm>
            <a:off x="1638360" y="1265400"/>
            <a:ext cx="105537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้าหมายที่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ในสังคมไทยทุกช่วงวัยมีทักษะ ความรู้และความสามารถเพิ่มขึ้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TextBox 63"/>
          <p:cNvGrpSpPr/>
          <p:nvPr/>
        </p:nvGrpSpPr>
        <p:grpSpPr>
          <a:xfrm>
            <a:off x="-92160" y="1700280"/>
            <a:ext cx="1792440" cy="570960"/>
            <a:chOff x="-92160" y="1700280"/>
            <a:chExt cx="1792440" cy="570960"/>
          </a:xfrm>
        </p:grpSpPr>
        <p:pic>
          <p:nvPicPr>
            <p:cNvPr id="270" name="TextBox 63" descr=""/>
            <p:cNvPicPr/>
            <p:nvPr/>
          </p:nvPicPr>
          <p:blipFill>
            <a:blip r:embed="rId4"/>
            <a:stretch/>
          </p:blipFill>
          <p:spPr>
            <a:xfrm>
              <a:off x="-92160" y="1700280"/>
              <a:ext cx="17924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0" y="1751040"/>
              <a:ext cx="162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ัวชี้วัดเป้าหมาย แผนฯ </a:t>
              </a:r>
              <a:r>
                <a:rPr b="1" lang="th-TH" sz="14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สี่เหลี่ยมมุมมน 64"/>
          <p:cNvSpPr/>
          <p:nvPr/>
        </p:nvSpPr>
        <p:spPr>
          <a:xfrm>
            <a:off x="1638360" y="1692360"/>
            <a:ext cx="1055376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.1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มีพัฒนาการสมวัยไม่น้อยกว่าร้อยละ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5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	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2.2.3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ร้อยละ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ีคะแนน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Q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ม่ต่ำกว่าเกณฑ์มาตร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.2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ะแนน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Q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ฉลี่ยไม่ต่ำกว่าเกณฑ์มาตรฐาน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	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.5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ที่ได้รับการรับรองคุณวุฒิวิชาชีพและผู้ผ่านการทดสอบมาตรฐานฝีมือแรงงานแห่งชาติมีจำนวนเพิ่มขึ้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TextBox 68"/>
          <p:cNvGrpSpPr/>
          <p:nvPr/>
        </p:nvGrpSpPr>
        <p:grpSpPr>
          <a:xfrm>
            <a:off x="-79200" y="2305080"/>
            <a:ext cx="1811160" cy="743040"/>
            <a:chOff x="-79200" y="2305080"/>
            <a:chExt cx="1811160" cy="743040"/>
          </a:xfrm>
        </p:grpSpPr>
        <p:pic>
          <p:nvPicPr>
            <p:cNvPr id="274" name="TextBox 68" descr=""/>
            <p:cNvPicPr/>
            <p:nvPr/>
          </p:nvPicPr>
          <p:blipFill>
            <a:blip r:embed="rId5"/>
            <a:stretch/>
          </p:blipFill>
          <p:spPr>
            <a:xfrm>
              <a:off x="-79200" y="2305080"/>
              <a:ext cx="18111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2351160"/>
              <a:ext cx="165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เป้าหมาย</a:t>
              </a:r>
              <a:r>
                <a:rPr b="1" lang="th-TH" sz="14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/</a:t>
              </a:r>
              <a:r>
                <a:rPr b="1" lang="th-TH" sz="14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ตัวชี้วั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แผนบูรณากา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9"/>
          <p:cNvSpPr/>
          <p:nvPr/>
        </p:nvSpPr>
        <p:spPr>
          <a:xfrm>
            <a:off x="2616120" y="2982960"/>
            <a:ext cx="2217960" cy="191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2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ศึกษาที่มีคุณภาพให้ความรู้และทักษะชีวิต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วัยเรีย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-14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en-US" sz="1400" spc="-1" strike="noStrike">
                <a:solidFill>
                  <a:srgbClr val="385723"/>
                </a:solidFill>
                <a:latin typeface="TH SarabunPSK"/>
                <a:ea typeface="TH SarabunPSK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การพัฒนาความรู้และทักษะชีวิต โดยมุ่งเน้นการพัฒนาคุณภาพของการศึกษาให้เท่าเทียมกันมากขึ้น โดยเฉพาะในพื้นที่ห่างไก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0"/>
          <p:cNvSpPr/>
          <p:nvPr/>
        </p:nvSpPr>
        <p:spPr>
          <a:xfrm>
            <a:off x="4954680" y="2965320"/>
            <a:ext cx="2133360" cy="170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3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ทักษะชีวิตและทักษะการทำงาน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วัยรุ่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21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การพัฒนาทักษะชีวิตและทักษะการทำ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ตัวเชื่อมต่อตรง 73"/>
          <p:cNvSpPr/>
          <p:nvPr/>
        </p:nvSpPr>
        <p:spPr>
          <a:xfrm>
            <a:off x="0" y="2238480"/>
            <a:ext cx="12192120" cy="0"/>
          </a:xfrm>
          <a:prstGeom prst="line">
            <a:avLst/>
          </a:prstGeom>
          <a:ln w="3816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1"/>
          <p:cNvSpPr/>
          <p:nvPr/>
        </p:nvSpPr>
        <p:spPr>
          <a:xfrm>
            <a:off x="0" y="2976480"/>
            <a:ext cx="2484360" cy="191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การเกิดอย่างมีคุณภาพและการมีพัฒนาการสมวัย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ปฐมวัย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0-5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กระบวนการทำให้เด็กเกิดอย่างมีคุณภาพ และมีพัฒนาการตามว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พิ่มโอกาสการเข้าถึงบริการที่มีคุณภาพของเด็กแรกเกิด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ฐมว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0"/>
          <p:cNvSpPr/>
          <p:nvPr/>
        </p:nvSpPr>
        <p:spPr>
          <a:xfrm>
            <a:off x="7221600" y="2995560"/>
            <a:ext cx="241128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4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ทักษะและสมรรถนะอย่างต่อเนื่อง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วัยแรงงา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59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ลุ่มเป้าหมายเฉพาะได้รับการฝึกอบรมเพื่อเพิ่มโอกาสในการประกอบอาชี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ุขภาพคนวัยทำ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8"/>
          <p:cNvSpPr/>
          <p:nvPr/>
        </p:nvSpPr>
        <p:spPr>
          <a:xfrm>
            <a:off x="9694800" y="2963880"/>
            <a:ext cx="2373480" cy="192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5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ทักษะความรู้ความสามารถในการดำรงชีวิต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สูงอายุ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0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ขึ้นไป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สริมสร้างทักษะของผู้สูงอายุให้อยู่ในสังคมอย่างมีคุณค่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ตรียมความพร้อมเป็นผู้สูงอายุที่มีคุณ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ตัวยึดหมายเลขภาพนิ่ง 33"/>
          <p:cNvSpPr/>
          <p:nvPr/>
        </p:nvSpPr>
        <p:spPr>
          <a:xfrm>
            <a:off x="9524880" y="64627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60480" y="5479920"/>
            <a:ext cx="2409840" cy="141300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แรง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วิทยาศาสตร์และเทคโนโลย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8"/>
          <p:cNvSpPr/>
          <p:nvPr/>
        </p:nvSpPr>
        <p:spPr>
          <a:xfrm>
            <a:off x="2646360" y="5776920"/>
            <a:ext cx="2217600" cy="58860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9"/>
          <p:cNvSpPr/>
          <p:nvPr/>
        </p:nvSpPr>
        <p:spPr>
          <a:xfrm>
            <a:off x="4983120" y="5600880"/>
            <a:ext cx="2075040" cy="91836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0"/>
          <p:cNvSpPr/>
          <p:nvPr/>
        </p:nvSpPr>
        <p:spPr>
          <a:xfrm>
            <a:off x="7237440" y="5413320"/>
            <a:ext cx="2413080" cy="75348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9"/>
          <p:cNvSpPr/>
          <p:nvPr/>
        </p:nvSpPr>
        <p:spPr>
          <a:xfrm>
            <a:off x="9728280" y="5450040"/>
            <a:ext cx="2313000" cy="108324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แรง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6"/>
          <p:cNvSpPr/>
          <p:nvPr/>
        </p:nvSpPr>
        <p:spPr>
          <a:xfrm>
            <a:off x="103320" y="2879640"/>
            <a:ext cx="1871640" cy="273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1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วามพร้อมให้เด็กปฐมวัยเป็นคนไทยที่มีความมั่นคงในชีวิต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ปฐมวัย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0-5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ปฐมวัยได้รับการพัฒนาจากศูนย์เด็กเล็กที่มีมาตรฐา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ปฐมวัยมีโอกาสเข้าถึงสิทธิและบริการต่างๆ ของรั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1"/>
          <p:cNvSpPr/>
          <p:nvPr/>
        </p:nvSpPr>
        <p:spPr>
          <a:xfrm>
            <a:off x="2152800" y="2879640"/>
            <a:ext cx="2771640" cy="275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2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โอกาสทางการศึกษาในระดับสูงให้เด็กวัยเรียนมีความมั่นคงในชีวิต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วัยเรีย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-14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ให้โอกาสทางการศึกษาแก่เด็กนอกระบบโรงเรีย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จายการศึกษาที่มีคุณภาพเพิ่มความเท่าเทียมกันระหว่างพื้นที่ โดยสร้างแรงจูงใจให้ครูกระจายตัว ทั้งมาตรการด้านการเงิน สวัสดิการบ้านพัก โอกาสในการพัฒนาคร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นับสนุนการสร้างโอกาสในการศึกษาของเด็กด้อยโอกา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4"/>
          <p:cNvSpPr/>
          <p:nvPr/>
        </p:nvSpPr>
        <p:spPr>
          <a:xfrm>
            <a:off x="5035680" y="2816280"/>
            <a:ext cx="1898640" cy="265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3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ัฒนาโอกาสในการศึกษาระดับสูงและประสบการณ์การทำงาน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วัยรุ่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21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โอกาสในการศึกษาที่สูงขึ้น และความพร้อมในทักษะอาชีพ โดยเฉพาะในกลุ่มประชากร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0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ที่มีรายได้ต่ำสุ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การมีรายได้ระหว่างเรีย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7"/>
          <p:cNvSpPr/>
          <p:nvPr/>
        </p:nvSpPr>
        <p:spPr>
          <a:xfrm>
            <a:off x="7029360" y="2860560"/>
            <a:ext cx="2870280" cy="14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4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ความมั่นคงในชีวิตให้แรงงาน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วัยแรงงา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59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ที่อยู่อาศัยให้แก่ผู้มีรายได้น้อ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โอกาสในการประกอบอาชีพอย่างยั่งยืน โดยเฉพาะกลุ่มเป้าหมาย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0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ที่มีรายได้ต่ำสุ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9"/>
          <p:cNvSpPr/>
          <p:nvPr/>
        </p:nvSpPr>
        <p:spPr>
          <a:xfrm>
            <a:off x="10002960" y="2871720"/>
            <a:ext cx="2027160" cy="256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5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ความมั่นคงในชีวิตของผู้สูงอายุ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สูงอายุ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0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ขึ้นไป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สูงอายุได้รับการพัฒนาคุณภาพชีวิต และเข้าถึงสวัสดิการสังคม พร้อมทั้งเพิ่มสวัสดิการสังคมให้แก่ผู้สูงอายุ  กลุ่มประชากรร้อยละ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0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ที่มีรายได้ต่ำสุ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ผู้สูงอายุได้รับการประเมินทั้งด้านสุขภาพและ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8"/>
          <p:cNvSpPr/>
          <p:nvPr/>
        </p:nvSpPr>
        <p:spPr>
          <a:xfrm>
            <a:off x="1708200" y="2293560"/>
            <a:ext cx="10458360" cy="6102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้าหมายที่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ไทยทุกช่วงวัยมีความมั่นคงในชีวิ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ัวชี้วัด </a:t>
            </a:r>
            <a:r>
              <a:rPr b="1" lang="en-US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5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ประชากรกลุ่มเป้าหมายมีความมั่นคงในชีวิ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8"/>
          <p:cNvSpPr/>
          <p:nvPr/>
        </p:nvSpPr>
        <p:spPr>
          <a:xfrm>
            <a:off x="142920" y="4591080"/>
            <a:ext cx="1824120" cy="854640"/>
          </a:xfrm>
          <a:prstGeom prst="rect">
            <a:avLst/>
          </a:prstGeom>
          <a:gradFill rotWithShape="0">
            <a:gsLst>
              <a:gs pos="0">
                <a:srgbClr val="99aff0"/>
              </a:gs>
              <a:gs pos="100000">
                <a:srgbClr val="d7e1ff"/>
              </a:gs>
            </a:gsLst>
            <a:lin ang="16200000"/>
          </a:gra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ศูนย์เด็กเล็กที่ผ่านเกณฑ์มาตรฐา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1"/>
          <p:cNvSpPr/>
          <p:nvPr/>
        </p:nvSpPr>
        <p:spPr>
          <a:xfrm>
            <a:off x="2141640" y="4476600"/>
            <a:ext cx="2813040" cy="1427040"/>
          </a:xfrm>
          <a:prstGeom prst="rect">
            <a:avLst/>
          </a:prstGeom>
          <a:gradFill rotWithShape="0">
            <a:gsLst>
              <a:gs pos="0">
                <a:srgbClr val="99aff0"/>
              </a:gs>
              <a:gs pos="100000">
                <a:srgbClr val="d7e1ff"/>
              </a:gs>
            </a:gsLst>
            <a:lin ang="16200000"/>
          </a:gra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เด็กป่วยและด้อยโอกาสที่สามารถเข้ารับการศึกษาปก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เด็กกลุ่มเป้าหมายที่ลงทะเบียนเรียนการศึกษานอกระบบโรงเรียนตามหลักสูตรการศึกษาขั้นพื้นฐาน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น้นเด็กนอกระบบ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3"/>
          <p:cNvSpPr/>
          <p:nvPr/>
        </p:nvSpPr>
        <p:spPr>
          <a:xfrm>
            <a:off x="5073480" y="4567320"/>
            <a:ext cx="1837080" cy="854640"/>
          </a:xfrm>
          <a:prstGeom prst="rect">
            <a:avLst/>
          </a:prstGeom>
          <a:gradFill rotWithShape="0">
            <a:gsLst>
              <a:gs pos="0">
                <a:srgbClr val="99aff0"/>
              </a:gs>
              <a:gs pos="100000">
                <a:srgbClr val="d7e1ff"/>
              </a:gs>
            </a:gsLst>
            <a:lin ang="16200000"/>
          </a:gra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ัดส่วนของเยาวชนได้รับโอกาสทางการศึกษาที่สูงขึ้น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6"/>
          <p:cNvSpPr/>
          <p:nvPr/>
        </p:nvSpPr>
        <p:spPr>
          <a:xfrm>
            <a:off x="7013520" y="4195800"/>
            <a:ext cx="2927520" cy="1784160"/>
          </a:xfrm>
          <a:prstGeom prst="rect">
            <a:avLst/>
          </a:prstGeom>
          <a:gradFill rotWithShape="0">
            <a:gsLst>
              <a:gs pos="0">
                <a:srgbClr val="99aff0"/>
              </a:gs>
              <a:gs pos="100000">
                <a:srgbClr val="d7e1ff"/>
              </a:gs>
            </a:gsLst>
            <a:lin ang="16200000"/>
          </a:gra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ประชากรกลุ่มเป้าหมายเข้าถึงระบบสวัสดิการ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2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3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แรงงานที่ได้รับการบรรจุงานในประเท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3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ัดส่วนผู้อยู่ในระบบประกันทางสังคมต่อกำลังแรงงาน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4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กลุ่มวัยแรงงานเข้าถึงระบบบริการอาชีวอนามัยที่มีคุณ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7"/>
          <p:cNvSpPr/>
          <p:nvPr/>
        </p:nvSpPr>
        <p:spPr>
          <a:xfrm>
            <a:off x="10018800" y="4664160"/>
            <a:ext cx="2027160" cy="1109160"/>
          </a:xfrm>
          <a:prstGeom prst="rect">
            <a:avLst/>
          </a:prstGeom>
          <a:gradFill rotWithShape="0">
            <a:gsLst>
              <a:gs pos="0">
                <a:srgbClr val="99aff0"/>
              </a:gs>
              <a:gs pos="100000">
                <a:srgbClr val="d7e1ff"/>
              </a:gs>
            </a:gsLst>
            <a:lin ang="16200000"/>
          </a:gra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1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ผู้สูงอายุเข้าถึงสิทธิ บริการทางสังคมได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2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ผู้สูงอายุสามารถช่วยเหลือตนเองได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สี่เหลี่ยมผืนผ้า 48"/>
          <p:cNvGrpSpPr/>
          <p:nvPr/>
        </p:nvGrpSpPr>
        <p:grpSpPr>
          <a:xfrm>
            <a:off x="-42840" y="-66600"/>
            <a:ext cx="12600000" cy="944640"/>
            <a:chOff x="-42840" y="-66600"/>
            <a:chExt cx="12600000" cy="944640"/>
          </a:xfrm>
        </p:grpSpPr>
        <p:pic>
          <p:nvPicPr>
            <p:cNvPr id="300" name="สี่เหลี่ยมผืนผ้า 48" descr=""/>
            <p:cNvPicPr/>
            <p:nvPr/>
          </p:nvPicPr>
          <p:blipFill>
            <a:blip r:embed="rId1"/>
            <a:stretch/>
          </p:blipFill>
          <p:spPr>
            <a:xfrm>
              <a:off x="-42840" y="-66600"/>
              <a:ext cx="1260000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0" y="31680"/>
              <a:ext cx="12192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(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ร่าง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)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ความเชื่อมโยงแผนบูรณาการ เรื่อง การพัฒนาศักยภาพคนตามช่วงวัย ปี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256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51"/>
          <p:cNvSpPr/>
          <p:nvPr/>
        </p:nvSpPr>
        <p:spPr>
          <a:xfrm>
            <a:off x="0" y="393840"/>
            <a:ext cx="1650960" cy="642600"/>
          </a:xfrm>
          <a:prstGeom prst="rect">
            <a:avLst/>
          </a:prstGeom>
          <a:gradFill rotWithShape="0">
            <a:gsLst>
              <a:gs pos="0">
                <a:srgbClr val="285906"/>
              </a:gs>
              <a:gs pos="100000">
                <a:srgbClr val="75ca43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ยุทธศาสตร์ชาติ </a:t>
            </a:r>
            <a:r>
              <a:rPr b="1" lang="th-TH" sz="1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0</a:t>
            </a:r>
            <a:r>
              <a:rPr b="1" lang="en-US" sz="1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ป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สี่เหลี่ยมมุมมน 52"/>
          <p:cNvSpPr/>
          <p:nvPr/>
        </p:nvSpPr>
        <p:spPr>
          <a:xfrm>
            <a:off x="1638360" y="395280"/>
            <a:ext cx="105537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้านการพัฒนาและเสริมสร้างศักยภาพค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TextBox 53"/>
          <p:cNvGrpSpPr/>
          <p:nvPr/>
        </p:nvGrpSpPr>
        <p:grpSpPr>
          <a:xfrm>
            <a:off x="-96840" y="768240"/>
            <a:ext cx="1839960" cy="715680"/>
            <a:chOff x="-96840" y="768240"/>
            <a:chExt cx="1839960" cy="715680"/>
          </a:xfrm>
        </p:grpSpPr>
        <p:pic>
          <p:nvPicPr>
            <p:cNvPr id="305" name="TextBox 53" descr=""/>
            <p:cNvPicPr/>
            <p:nvPr/>
          </p:nvPicPr>
          <p:blipFill>
            <a:blip r:embed="rId2"/>
            <a:stretch/>
          </p:blipFill>
          <p:spPr>
            <a:xfrm>
              <a:off x="-96840" y="768240"/>
              <a:ext cx="1839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0" y="841320"/>
              <a:ext cx="165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แผนพัฒนาฯฉบับที่ 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สี่เหลี่ยมมุมมน 54"/>
          <p:cNvSpPr/>
          <p:nvPr/>
        </p:nvSpPr>
        <p:spPr>
          <a:xfrm>
            <a:off x="1638360" y="846000"/>
            <a:ext cx="105537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ยุทธศาสตร์ที่ </a:t>
            </a:r>
            <a:r>
              <a:rPr b="1" lang="th-TH" sz="2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th-TH" sz="2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เสริมสร้างและพัฒนาศักยภาพทุนมนุษย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TextBox 60"/>
          <p:cNvGrpSpPr/>
          <p:nvPr/>
        </p:nvGrpSpPr>
        <p:grpSpPr>
          <a:xfrm>
            <a:off x="-55440" y="2225520"/>
            <a:ext cx="1811160" cy="883080"/>
            <a:chOff x="-55440" y="2225520"/>
            <a:chExt cx="1811160" cy="883080"/>
          </a:xfrm>
        </p:grpSpPr>
        <p:pic>
          <p:nvPicPr>
            <p:cNvPr id="309" name="TextBox 60" descr=""/>
            <p:cNvPicPr/>
            <p:nvPr/>
          </p:nvPicPr>
          <p:blipFill>
            <a:blip r:embed="rId3"/>
            <a:stretch/>
          </p:blipFill>
          <p:spPr>
            <a:xfrm>
              <a:off x="-55440" y="2225520"/>
              <a:ext cx="1811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3760" y="2328840"/>
              <a:ext cx="1650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เป้าหมาย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/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ัวชี้วั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แผนบูรณา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ตัวเชื่อมต่อตรง 62"/>
          <p:cNvSpPr/>
          <p:nvPr/>
        </p:nvSpPr>
        <p:spPr>
          <a:xfrm flipV="1">
            <a:off x="0" y="2214360"/>
            <a:ext cx="12192120" cy="28440"/>
          </a:xfrm>
          <a:prstGeom prst="line">
            <a:avLst/>
          </a:prstGeom>
          <a:ln w="38160">
            <a:solidFill>
              <a:srgbClr val="2f559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4"/>
          <p:cNvSpPr/>
          <p:nvPr/>
        </p:nvSpPr>
        <p:spPr>
          <a:xfrm>
            <a:off x="10580760" y="66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อกสารประชุม </a:t>
            </a:r>
            <a:r>
              <a:rPr b="0" lang="th-TH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 </a:t>
            </a:r>
            <a:r>
              <a:rPr b="0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ย</a:t>
            </a:r>
            <a:r>
              <a:rPr b="0" lang="th-TH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ตัวยึดหมายเลขภาพนิ่ง 30"/>
          <p:cNvSpPr/>
          <p:nvPr/>
        </p:nvSpPr>
        <p:spPr>
          <a:xfrm>
            <a:off x="9501120" y="64627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TextBox 30"/>
          <p:cNvGrpSpPr/>
          <p:nvPr/>
        </p:nvGrpSpPr>
        <p:grpSpPr>
          <a:xfrm>
            <a:off x="-128520" y="1206360"/>
            <a:ext cx="1828800" cy="712440"/>
            <a:chOff x="-128520" y="1206360"/>
            <a:chExt cx="1828800" cy="712440"/>
          </a:xfrm>
        </p:grpSpPr>
        <p:pic>
          <p:nvPicPr>
            <p:cNvPr id="315" name="TextBox 30" descr=""/>
            <p:cNvPicPr/>
            <p:nvPr/>
          </p:nvPicPr>
          <p:blipFill>
            <a:blip r:embed="rId4"/>
            <a:stretch/>
          </p:blipFill>
          <p:spPr>
            <a:xfrm>
              <a:off x="-128520" y="1206360"/>
              <a:ext cx="18288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0" y="1276200"/>
              <a:ext cx="16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เป้าหมายแผนฯ 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สี่เหลี่ยมมุมมน 33"/>
          <p:cNvSpPr/>
          <p:nvPr/>
        </p:nvSpPr>
        <p:spPr>
          <a:xfrm>
            <a:off x="1638360" y="1265400"/>
            <a:ext cx="105537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้าหมายที่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 </a:t>
            </a:r>
            <a:r>
              <a:rPr b="1" lang="th-TH" sz="2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ในสังคมไทยทุกช่วงวัยมีทักษะ ความรู้และความสามารถเพิ่มขึ้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TextBox 34"/>
          <p:cNvGrpSpPr/>
          <p:nvPr/>
        </p:nvGrpSpPr>
        <p:grpSpPr>
          <a:xfrm>
            <a:off x="-92160" y="1700280"/>
            <a:ext cx="1792440" cy="570960"/>
            <a:chOff x="-92160" y="1700280"/>
            <a:chExt cx="1792440" cy="570960"/>
          </a:xfrm>
        </p:grpSpPr>
        <p:pic>
          <p:nvPicPr>
            <p:cNvPr id="319" name="TextBox 34" descr=""/>
            <p:cNvPicPr/>
            <p:nvPr/>
          </p:nvPicPr>
          <p:blipFill>
            <a:blip r:embed="rId5"/>
            <a:stretch/>
          </p:blipFill>
          <p:spPr>
            <a:xfrm>
              <a:off x="-92160" y="1700280"/>
              <a:ext cx="17924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0" y="1751040"/>
              <a:ext cx="162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ัวชี้วัดเป้าหมาย แผนฯ </a:t>
              </a:r>
              <a:r>
                <a:rPr b="1" lang="th-TH" sz="14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สี่เหลี่ยมมุมมน 35"/>
          <p:cNvSpPr/>
          <p:nvPr/>
        </p:nvSpPr>
        <p:spPr>
          <a:xfrm>
            <a:off x="1638360" y="1692360"/>
            <a:ext cx="1055376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.1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มีพัฒนาการสมวัยไม่น้อยกว่าร้อยละ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5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	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2.2.3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ร้อยละ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ีคะแนน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EQ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ไม่ต่ำกว่าเกณฑ์มาตร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.2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ะแนน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IQ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ฉลี่ยไม่ต่ำกว่าเกณฑ์มาตรฐาน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	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.5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ที่ได้รับการรับรองคุณวุฒิวิชาชีพและผู้ผ่านการทดสอบมาตรฐานฝีมือแรงงานแห่งชาติมีจำนวนเพิ่มขึ้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7"/>
          <p:cNvSpPr/>
          <p:nvPr/>
        </p:nvSpPr>
        <p:spPr>
          <a:xfrm>
            <a:off x="139680" y="5326200"/>
            <a:ext cx="1800360" cy="91836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แรง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9"/>
          <p:cNvSpPr/>
          <p:nvPr/>
        </p:nvSpPr>
        <p:spPr>
          <a:xfrm>
            <a:off x="5114880" y="5321160"/>
            <a:ext cx="1787400" cy="108324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0"/>
          <p:cNvSpPr/>
          <p:nvPr/>
        </p:nvSpPr>
        <p:spPr>
          <a:xfrm>
            <a:off x="6996240" y="5484960"/>
            <a:ext cx="2943000" cy="90828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แรง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2"/>
          <p:cNvSpPr/>
          <p:nvPr/>
        </p:nvSpPr>
        <p:spPr>
          <a:xfrm>
            <a:off x="10034640" y="5618160"/>
            <a:ext cx="1969920" cy="91836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3"/>
          <p:cNvSpPr/>
          <p:nvPr/>
        </p:nvSpPr>
        <p:spPr>
          <a:xfrm>
            <a:off x="2125800" y="5759280"/>
            <a:ext cx="2814480" cy="75348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วิทยาศาสตร์และเทคโนโลย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91"/>
          <p:cNvSpPr/>
          <p:nvPr/>
        </p:nvSpPr>
        <p:spPr>
          <a:xfrm>
            <a:off x="9817200" y="2897280"/>
            <a:ext cx="2251080" cy="18590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5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สริมสร้างคุณค่าและความอบอุ่นในวัยผู้สูงอายุ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สูงอายุ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0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ขึ้นไป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สูงอายุมีคุณค่าทางสังคม และได้รับการดูแลอย่างมีคุณภาพ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สูงอายุได้รับการส่งเสริมป้องกันปัญหาสุขภาพจ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8"/>
          <p:cNvSpPr/>
          <p:nvPr/>
        </p:nvSpPr>
        <p:spPr>
          <a:xfrm>
            <a:off x="54000" y="4643280"/>
            <a:ext cx="2014560" cy="824040"/>
          </a:xfrm>
          <a:prstGeom prst="rect">
            <a:avLst/>
          </a:prstGeom>
          <a:solidFill>
            <a:srgbClr val="a9d18e"/>
          </a:soli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.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ที่ลดลงของความรุนแรงในครอบครัวที่กระทำต่อเด็กปฐมวัย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3"/>
          <p:cNvSpPr/>
          <p:nvPr/>
        </p:nvSpPr>
        <p:spPr>
          <a:xfrm>
            <a:off x="2205000" y="4552920"/>
            <a:ext cx="2293920" cy="1189080"/>
          </a:xfrm>
          <a:prstGeom prst="rect">
            <a:avLst/>
          </a:prstGeom>
          <a:solidFill>
            <a:srgbClr val="a9d18e"/>
          </a:soli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ชาชนกลุ่มเป้าหมายได้รับการเสริมสร้างภูมิคุ้มกันทางสังคม 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2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วัยเรียนมีสุขภาพดีตามเกณฑ์ 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8"/>
          <p:cNvSpPr/>
          <p:nvPr/>
        </p:nvSpPr>
        <p:spPr>
          <a:xfrm>
            <a:off x="4640400" y="4132440"/>
            <a:ext cx="3184560" cy="1691280"/>
          </a:xfrm>
          <a:prstGeom prst="rect">
            <a:avLst/>
          </a:prstGeom>
          <a:solidFill>
            <a:srgbClr val="a9d18e"/>
          </a:soli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อัตราการคลอดในมารดาอายุ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19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 ไม่เกิน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ต่อประชากรหญิงอายุ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19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 พันค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2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80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ของเยาวชนกลุ่มเป้าหมายได้รับการปลูกผังคุณธรรมจริยธรรมและมีทัศนคติที่ดีขึ้นต่อการอยู่ร่วมกันใน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3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็กและเยาวชนภายหลังปล่อยจากศูนย์ฝึกและอบรมเด็กและเยาวชนสามารถกลับไปใช้ชีวิตในสังคมได้อย่างปกติสุข ไม่น้อยกว่า  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1"/>
          <p:cNvSpPr/>
          <p:nvPr/>
        </p:nvSpPr>
        <p:spPr>
          <a:xfrm>
            <a:off x="7916760" y="4456080"/>
            <a:ext cx="1868760" cy="976680"/>
          </a:xfrm>
          <a:prstGeom prst="rect">
            <a:avLst/>
          </a:prstGeom>
          <a:solidFill>
            <a:srgbClr val="a9d18e"/>
          </a:soli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.1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ัชนีความอบอุ่นครอบครัวเพิ่มขึ้น ร้อยละ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2"/>
          <p:cNvSpPr/>
          <p:nvPr/>
        </p:nvSpPr>
        <p:spPr>
          <a:xfrm>
            <a:off x="9891720" y="4384800"/>
            <a:ext cx="2136600" cy="1616040"/>
          </a:xfrm>
          <a:prstGeom prst="rect">
            <a:avLst/>
          </a:prstGeom>
          <a:solidFill>
            <a:srgbClr val="a9d18e"/>
          </a:solidFill>
          <a:ln w="9360">
            <a:solidFill>
              <a:srgbClr val="4472c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ตัวชี้วัด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1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จปฐ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ัชนีการได้รับความอบอุ่นในครอบครัว ร้อยละ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.2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ผู้สูงอายุที่มารับบริการในคลินิก </a:t>
            </a:r>
            <a:r>
              <a:rPr b="0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NCD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ีภาวะเศร้าลดลง ร้อยละ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ลูกศรเชื่อมต่อแบบตรง 92"/>
          <p:cNvCxnSpPr/>
          <p:nvPr/>
        </p:nvCxnSpPr>
        <p:spPr>
          <a:xfrm>
            <a:off x="1191240" y="4134960"/>
            <a:ext cx="684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4" name="ลูกศรเชื่อมต่อแบบตรง 93"/>
          <p:cNvCxnSpPr/>
          <p:nvPr/>
        </p:nvCxnSpPr>
        <p:spPr>
          <a:xfrm>
            <a:off x="3423240" y="4146120"/>
            <a:ext cx="684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ลูกศรเชื่อมต่อแบบตรง 94"/>
          <p:cNvCxnSpPr/>
          <p:nvPr/>
        </p:nvCxnSpPr>
        <p:spPr>
          <a:xfrm>
            <a:off x="6253200" y="3654000"/>
            <a:ext cx="864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ลูกศรเชื่อมต่อแบบตรง 97"/>
          <p:cNvCxnSpPr/>
          <p:nvPr/>
        </p:nvCxnSpPr>
        <p:spPr>
          <a:xfrm>
            <a:off x="8826480" y="3901680"/>
            <a:ext cx="720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7" name="TextBox 52"/>
          <p:cNvSpPr/>
          <p:nvPr/>
        </p:nvSpPr>
        <p:spPr>
          <a:xfrm>
            <a:off x="4681440" y="2928960"/>
            <a:ext cx="3140280" cy="155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3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สริมสร้างภูมิคุ้มกันเพื่อรองรับการเปลี่ยนแปลงและการก้าวสู่การเป็นผู้ใหญ่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วัยรุ่น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21 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้องกันพฤติกรรมเสี่ยงของวัยรุ่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้องกันพฤติกรรมมั่วสุม การขับขี่ยานพาหนะกระทำผิดกฎหมา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้องกันพฤติกรรมความรุนแรงของวัยรุ่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4"/>
          <p:cNvSpPr/>
          <p:nvPr/>
        </p:nvSpPr>
        <p:spPr>
          <a:xfrm>
            <a:off x="2203560" y="2930400"/>
            <a:ext cx="2297160" cy="225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2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รากฐานจริยธรรม คุณธรรมเพื่อความอยู่ดีมีสุข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วัยเรีย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-14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ร้างความร่วมมือในการพัฒนาคุณธรรมและจริยธรร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้องกันความรุนแรงที่มีต่อเด็กในวัยเรีย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้องกันความเสี่ยงการตั้งครรภ์ในวัยรุ่นในกลุ่มเด็กวัยเรีย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5"/>
          <p:cNvSpPr/>
          <p:nvPr/>
        </p:nvSpPr>
        <p:spPr>
          <a:xfrm>
            <a:off x="7927920" y="2916360"/>
            <a:ext cx="1801800" cy="207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4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ความอบอุ่นในครอบครัวสำหรับวัยแรงงาน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วัยแรงงาน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5-59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สุขภาพกาย ใจ สำหรับวัยแรง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กิจกรรมครอบครั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Rounded Rectangle 9"/>
          <p:cNvGrpSpPr/>
          <p:nvPr/>
        </p:nvGrpSpPr>
        <p:grpSpPr>
          <a:xfrm>
            <a:off x="1609560" y="2176560"/>
            <a:ext cx="10588680" cy="1011240"/>
            <a:chOff x="1609560" y="2176560"/>
            <a:chExt cx="10588680" cy="1011240"/>
          </a:xfrm>
        </p:grpSpPr>
        <p:pic>
          <p:nvPicPr>
            <p:cNvPr id="341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609560" y="2176560"/>
              <a:ext cx="105886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758960" y="2378160"/>
              <a:ext cx="10285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เป้าหมายที่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: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คนไทยมีครอบครัวอบอุ่นเข้มแข็งมีคุณธรรมจริยธรร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ตัวชี้วัด </a:t>
              </a:r>
              <a:r>
                <a:rPr b="1" lang="en-US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: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ร้อยละ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80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ของครอบครัวมีความเข้มแข็งและความอบอุ่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57"/>
          <p:cNvSpPr/>
          <p:nvPr/>
        </p:nvSpPr>
        <p:spPr>
          <a:xfrm>
            <a:off x="49320" y="2930400"/>
            <a:ext cx="1998720" cy="243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แนวทาง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ea typeface="TH SarabunPSK"/>
              </a:rPr>
              <a:t>1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่งเสริม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วามอบอุ่นให้เด็กปฐมวัย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ด็กปฐมวัย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0-5 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</a:t>
            </a:r>
            <a:r>
              <a:rPr b="0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PSK"/>
                <a:cs typeface="TH SarabunPSK"/>
              </a:rPr>
              <a:t>กิจกรรมหลัก</a:t>
            </a: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ตรียมพร้อมครอบครัวก่อนมีบุตร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รวมปู่ย่าตายาย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ให้ความรู้พ่อแม่ในเรื่องโภชนาการที่เหมาะสม การเลี้ยงลูกด้วยนมแม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้องกันความรุนแรงที่มีต่อเด็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สี่เหลี่ยมผืนผ้า 59"/>
          <p:cNvGrpSpPr/>
          <p:nvPr/>
        </p:nvGrpSpPr>
        <p:grpSpPr>
          <a:xfrm>
            <a:off x="-42840" y="-79200"/>
            <a:ext cx="12600000" cy="944280"/>
            <a:chOff x="-42840" y="-79200"/>
            <a:chExt cx="12600000" cy="944280"/>
          </a:xfrm>
        </p:grpSpPr>
        <p:pic>
          <p:nvPicPr>
            <p:cNvPr id="345" name="สี่เหลี่ยมผืนผ้า 59" descr=""/>
            <p:cNvPicPr/>
            <p:nvPr/>
          </p:nvPicPr>
          <p:blipFill>
            <a:blip r:embed="rId2"/>
            <a:stretch/>
          </p:blipFill>
          <p:spPr>
            <a:xfrm>
              <a:off x="-42840" y="-79200"/>
              <a:ext cx="126000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19080"/>
              <a:ext cx="12192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(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ร่าง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)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ความเชื่อมโยงแผนบูรณาการ เรื่อง การพัฒนาศักยภาพคนตามช่วงวัย ปี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256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60"/>
          <p:cNvSpPr/>
          <p:nvPr/>
        </p:nvSpPr>
        <p:spPr>
          <a:xfrm>
            <a:off x="0" y="380880"/>
            <a:ext cx="1650960" cy="642600"/>
          </a:xfrm>
          <a:prstGeom prst="rect">
            <a:avLst/>
          </a:prstGeom>
          <a:gradFill rotWithShape="0">
            <a:gsLst>
              <a:gs pos="0">
                <a:srgbClr val="285906"/>
              </a:gs>
              <a:gs pos="100000">
                <a:srgbClr val="75ca43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ยุทธศาสตร์ชาติ </a:t>
            </a:r>
            <a:r>
              <a:rPr b="1" lang="th-TH" sz="1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20</a:t>
            </a:r>
            <a:r>
              <a:rPr b="1" lang="en-US" sz="18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ป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สี่เหลี่ยมมุมมน 63"/>
          <p:cNvSpPr/>
          <p:nvPr/>
        </p:nvSpPr>
        <p:spPr>
          <a:xfrm>
            <a:off x="1638360" y="382680"/>
            <a:ext cx="1055376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3. </a:t>
            </a:r>
            <a:r>
              <a:rPr b="1" lang="th-TH" sz="2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้านการพัฒนาและเสริมสร้างศักยภาพค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TextBox 64"/>
          <p:cNvGrpSpPr/>
          <p:nvPr/>
        </p:nvGrpSpPr>
        <p:grpSpPr>
          <a:xfrm>
            <a:off x="-96840" y="743040"/>
            <a:ext cx="1839960" cy="715680"/>
            <a:chOff x="-96840" y="743040"/>
            <a:chExt cx="1839960" cy="715680"/>
          </a:xfrm>
        </p:grpSpPr>
        <p:pic>
          <p:nvPicPr>
            <p:cNvPr id="350" name="TextBox 64" descr=""/>
            <p:cNvPicPr/>
            <p:nvPr/>
          </p:nvPicPr>
          <p:blipFill>
            <a:blip r:embed="rId3"/>
            <a:stretch/>
          </p:blipFill>
          <p:spPr>
            <a:xfrm>
              <a:off x="-96840" y="743040"/>
              <a:ext cx="18399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0" y="816120"/>
              <a:ext cx="165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แผนพัฒนาฯฉบับที่ 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สี่เหลี่ยมมุมมน 65"/>
          <p:cNvSpPr/>
          <p:nvPr/>
        </p:nvSpPr>
        <p:spPr>
          <a:xfrm>
            <a:off x="1638360" y="831960"/>
            <a:ext cx="1055376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ยุทธศาสตร์ที่ </a:t>
            </a: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 </a:t>
            </a:r>
            <a:r>
              <a:rPr b="1" lang="th-TH" sz="2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เสริมสร้างและพัฒนาศักยภาพทุนมนุษย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TextBox 66"/>
          <p:cNvGrpSpPr/>
          <p:nvPr/>
        </p:nvGrpSpPr>
        <p:grpSpPr>
          <a:xfrm>
            <a:off x="-128520" y="1206360"/>
            <a:ext cx="1828800" cy="717480"/>
            <a:chOff x="-128520" y="1206360"/>
            <a:chExt cx="1828800" cy="717480"/>
          </a:xfrm>
        </p:grpSpPr>
        <p:pic>
          <p:nvPicPr>
            <p:cNvPr id="354" name="TextBox 66" descr=""/>
            <p:cNvPicPr/>
            <p:nvPr/>
          </p:nvPicPr>
          <p:blipFill>
            <a:blip r:embed="rId4"/>
            <a:stretch/>
          </p:blipFill>
          <p:spPr>
            <a:xfrm>
              <a:off x="-128520" y="1206360"/>
              <a:ext cx="1828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0" y="1281240"/>
              <a:ext cx="16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เป้าหมายแผนฯ 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TextBox 68"/>
          <p:cNvGrpSpPr/>
          <p:nvPr/>
        </p:nvGrpSpPr>
        <p:grpSpPr>
          <a:xfrm>
            <a:off x="-92160" y="1706400"/>
            <a:ext cx="1792440" cy="569520"/>
            <a:chOff x="-92160" y="1706400"/>
            <a:chExt cx="1792440" cy="569520"/>
          </a:xfrm>
        </p:grpSpPr>
        <p:pic>
          <p:nvPicPr>
            <p:cNvPr id="357" name="TextBox 68" descr=""/>
            <p:cNvPicPr/>
            <p:nvPr/>
          </p:nvPicPr>
          <p:blipFill>
            <a:blip r:embed="rId5"/>
            <a:stretch/>
          </p:blipFill>
          <p:spPr>
            <a:xfrm>
              <a:off x="-92160" y="1706400"/>
              <a:ext cx="1792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0" y="1755720"/>
              <a:ext cx="162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ัวชี้วัดเป้าหมาย แผนฯ </a:t>
              </a:r>
              <a:r>
                <a:rPr b="1" lang="th-TH" sz="14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TextBox 70"/>
          <p:cNvGrpSpPr/>
          <p:nvPr/>
        </p:nvGrpSpPr>
        <p:grpSpPr>
          <a:xfrm>
            <a:off x="-55440" y="2266920"/>
            <a:ext cx="1811160" cy="915840"/>
            <a:chOff x="-55440" y="2266920"/>
            <a:chExt cx="1811160" cy="915840"/>
          </a:xfrm>
        </p:grpSpPr>
        <p:pic>
          <p:nvPicPr>
            <p:cNvPr id="360" name="TextBox 70" descr=""/>
            <p:cNvPicPr/>
            <p:nvPr/>
          </p:nvPicPr>
          <p:blipFill>
            <a:blip r:embed="rId6"/>
            <a:stretch/>
          </p:blipFill>
          <p:spPr>
            <a:xfrm>
              <a:off x="-55440" y="2266920"/>
              <a:ext cx="18111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3760" y="2365200"/>
              <a:ext cx="1650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เป้าหมาย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/</a:t>
              </a: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ัวชี้วั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แผนบูรณา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ตัวเชื่อมต่อตรง 71"/>
          <p:cNvSpPr/>
          <p:nvPr/>
        </p:nvSpPr>
        <p:spPr>
          <a:xfrm flipV="1">
            <a:off x="0" y="2273040"/>
            <a:ext cx="12192120" cy="27000"/>
          </a:xfrm>
          <a:prstGeom prst="line">
            <a:avLst/>
          </a:prstGeom>
          <a:ln w="38160">
            <a:solidFill>
              <a:srgbClr val="5482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4"/>
          <p:cNvSpPr/>
          <p:nvPr/>
        </p:nvSpPr>
        <p:spPr>
          <a:xfrm>
            <a:off x="10580760" y="66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อกสารประชุม </a:t>
            </a:r>
            <a:r>
              <a:rPr b="0" lang="th-TH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4 </a:t>
            </a:r>
            <a:r>
              <a:rPr b="0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พย</a:t>
            </a:r>
            <a:r>
              <a:rPr b="0" lang="th-TH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.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สี่เหลี่ยมมุมมน 38"/>
          <p:cNvSpPr/>
          <p:nvPr/>
        </p:nvSpPr>
        <p:spPr>
          <a:xfrm>
            <a:off x="1638360" y="1265400"/>
            <a:ext cx="10553760" cy="3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ป้าหมายที่ </a:t>
            </a:r>
            <a:r>
              <a:rPr b="1" lang="th-TH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สถาบันทางสังคมมีความเข้มแข็งและมีส่วนร่วมในการพัฒนาประเทศเพิ่มขึ้น โดยเฉพาะสถาบันครอบครัว สถาบันการศึกษา ชุมชน สื่อมวลชน และภาคประชาช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สี่เหลี่ยมมุมมน 39"/>
          <p:cNvSpPr/>
          <p:nvPr/>
        </p:nvSpPr>
        <p:spPr>
          <a:xfrm>
            <a:off x="1638360" y="1728720"/>
            <a:ext cx="1055376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5.1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ดัชนีครอบครัวอบอุ่นอยู่ในระดับดีขึ้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2.5.2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ระชากรอายุ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13 </a:t>
            </a:r>
            <a:r>
              <a:rPr b="1" lang="th-TH" sz="16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ปีขึ้นไป มีการปฏิบัติตามหลักคำสอนทางศาสนาเพิ่มขึ้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ตัวยึดหมายเลขภาพนิ่ง 41"/>
          <p:cNvSpPr/>
          <p:nvPr/>
        </p:nvSpPr>
        <p:spPr>
          <a:xfrm>
            <a:off x="9501120" y="6438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2"/>
          <p:cNvSpPr/>
          <p:nvPr/>
        </p:nvSpPr>
        <p:spPr>
          <a:xfrm>
            <a:off x="54000" y="5334120"/>
            <a:ext cx="2008080" cy="42372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3"/>
          <p:cNvSpPr/>
          <p:nvPr/>
        </p:nvSpPr>
        <p:spPr>
          <a:xfrm>
            <a:off x="2208240" y="5396040"/>
            <a:ext cx="2281320" cy="91836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วัฒน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5"/>
          <p:cNvSpPr/>
          <p:nvPr/>
        </p:nvSpPr>
        <p:spPr>
          <a:xfrm>
            <a:off x="7912080" y="5373720"/>
            <a:ext cx="1836720" cy="75348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การพัฒนาสังคมและความมั่นคงของมนุษย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6"/>
          <p:cNvSpPr/>
          <p:nvPr/>
        </p:nvSpPr>
        <p:spPr>
          <a:xfrm>
            <a:off x="9874080" y="5608800"/>
            <a:ext cx="2143440" cy="25884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7"/>
          <p:cNvSpPr/>
          <p:nvPr/>
        </p:nvSpPr>
        <p:spPr>
          <a:xfrm>
            <a:off x="4630680" y="5504040"/>
            <a:ext cx="3195720" cy="918360"/>
          </a:xfrm>
          <a:prstGeom prst="rect">
            <a:avLst/>
          </a:prstGeom>
          <a:gradFill rotWithShape="0">
            <a:gsLst>
              <a:gs pos="0">
                <a:srgbClr val="b3e09f"/>
              </a:gs>
              <a:gs pos="100000">
                <a:srgbClr val="e4fadb"/>
              </a:gs>
            </a:gsLst>
            <a:lin ang="16200000"/>
          </a:gradFill>
          <a:ln w="9360">
            <a:solidFill>
              <a:srgbClr val="70ad4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วัฒนธรรม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(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ศูนย์คุณธรรม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ยุติ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สาธารณส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มหาวิทยาล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11:33:22Z</dcterms:created>
  <dc:creator>Wanchat Suwankitti</dc:creator>
  <dc:description/>
  <dc:language>en-US</dc:language>
  <cp:lastModifiedBy>สุวนิตย์ ราชประดิษฐ</cp:lastModifiedBy>
  <cp:lastPrinted>2015-12-20T05:59:39Z</cp:lastPrinted>
  <dcterms:modified xsi:type="dcterms:W3CDTF">2016-11-08T04:41:20Z</dcterms:modified>
  <cp:revision>544</cp:revision>
  <dc:subject/>
  <dc:title>งบประมาณแบบบูรณาการ การพัฒนาคนตลอดช่วงชีวิต งบประมาณรายจ่ายประจำปีงบประมาณ พ.ศ. 2559</dc:title>
</cp:coreProperties>
</file>